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1B94-1E49-44E4-A00C-7CE0A05E3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4026-7F0B-4983-9E64-1A398007B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2D04-EDA4-4347-BBD4-68903D05B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A494-D936-4166-B616-CC7A36981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C445D-0198-4452-9BA9-606501876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27F81-4C5A-4A6B-8A5A-810E1D908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C9696-10FA-4CF3-A134-331D85448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672E5-7F9F-4012-80AA-F5D7E944E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C6F09-3B54-475A-9E56-9B3815FF4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5EA3F-5EB9-4083-9FBD-7B6E52818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2C14C-4C88-44E5-A4EA-4B90FF932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E1A5-40CB-4223-AF73-33BFB6C70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F6EEC-2298-44A0-A76F-3459F4E5C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58CC2-7478-4663-AD78-C56EA6607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CBB9C-FA4C-493C-A2A2-0312CA799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63959-7C7D-4D5B-83AA-2C206CAA1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8DB47-19FA-4771-B40A-1E546A95E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C9D1-CFAE-4923-B75F-B7A690175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C9A1-EE36-4826-BEE4-C645C403E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2C8D-876F-483A-ACA0-339BE8159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168C-6975-43FA-A45E-614EB3EFE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28F9-2171-48EE-B896-9906976A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4FB4-1979-44B8-A0F9-5FAE971FC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B978-D20D-4880-93AD-2E90588BF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EE9AB-C56B-4520-B265-453504C4FC9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5C060-5210-4A3E-A4EB-BC0BAFEE07C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907560"/>
            <a:ext cx="6703920" cy="16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330066"/>
                </a:solidFill>
                <a:latin typeface="Arial Cirilica"/>
              </a:rPr>
              <a:t>Извори података о оболевању и умирању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cccc00"/>
                </a:solidFill>
                <a:latin typeface="Arial Cirilica"/>
              </a:rPr>
              <a:t>Извештаји о узроку смрти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 Cirilica"/>
                <a:ea typeface="Arial"/>
              </a:rPr>
              <a:t>Опрезност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(ограничења)</a:t>
            </a:r>
            <a:r>
              <a:rPr b="0" lang="sr-CS" sz="2800" spc="-1" strike="noStrike">
                <a:solidFill>
                  <a:srgbClr val="000000"/>
                </a:solidFill>
                <a:latin typeface="Arial Cirilica"/>
                <a:ea typeface="Arial"/>
              </a:rPr>
              <a:t> при закључивању на основу умирањ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sr-CS" sz="2800" spc="-1" strike="noStrike">
                <a:solidFill>
                  <a:srgbClr val="000000"/>
                </a:solidFill>
                <a:latin typeface="Arial Cirilica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 Cirilica"/>
              </a:rPr>
              <a:t>погрешни закључц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Cirilic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330066"/>
                </a:solidFill>
                <a:latin typeface="Arial Cirilica"/>
                <a:ea typeface="Arial"/>
              </a:rPr>
              <a:t>Θ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Cirilica"/>
                <a:ea typeface="Arial"/>
              </a:rPr>
              <a:t>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ДОСТУПНОСТ</a:t>
            </a:r>
            <a:r>
              <a:rPr b="1" lang="sr-CS" sz="2800" spc="-1" strike="noStrike">
                <a:solidFill>
                  <a:srgbClr val="000000"/>
                </a:solidFill>
                <a:latin typeface="Arial Cirilica"/>
              </a:rPr>
              <a:t> информација</a:t>
            </a:r>
            <a:r>
              <a:rPr b="1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 Cirilica"/>
              </a:rPr>
              <a:t>и начин обраде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330066"/>
                </a:solidFill>
                <a:latin typeface="Arial Cirilica"/>
                <a:ea typeface="Arial"/>
              </a:rPr>
              <a:t>Θ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 Cirilica"/>
              </a:rPr>
              <a:t>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КВАЛИТЕТ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 информација зависи од лекара који уписује и шифрује узроке смр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330066"/>
                </a:solidFill>
                <a:latin typeface="Arial Cirilica"/>
                <a:ea typeface="Arial"/>
              </a:rPr>
              <a:t>Θ</a:t>
            </a:r>
            <a:r>
              <a:rPr b="1" lang="sr-Latn-C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ПРИРОДА ИБОЉЕЊА</a:t>
            </a:r>
            <a:r>
              <a:rPr b="0" lang="en-US" sz="12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62064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cccc00"/>
                </a:solidFill>
                <a:latin typeface="Arial Cirilica"/>
              </a:rPr>
              <a:t>Извештаји о узроку смрти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79280" y="2133720"/>
            <a:ext cx="7740720" cy="38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806400" indent="0">
              <a:spcBef>
                <a:spcPts val="700"/>
              </a:spcBef>
              <a:buNone/>
              <a:tabLst>
                <a:tab algn="l" pos="0"/>
                <a:tab algn="l" pos="176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Услов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да би се на основу</a:t>
            </a:r>
            <a:r>
              <a:rPr b="1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морталитета проценио значај</a:t>
            </a:r>
            <a:r>
              <a:rPr b="1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болести у националној </a:t>
            </a:r>
            <a:r>
              <a:rPr b="1" lang="en-US" sz="2800" spc="-1" strike="noStrike">
                <a:solidFill>
                  <a:srgbClr val="000000"/>
                </a:solidFill>
                <a:latin typeface="Arial Cirilic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064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76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Cirilica"/>
                <a:ea typeface="Arial"/>
              </a:rPr>
              <a:t>→</a:t>
            </a:r>
            <a:r>
              <a:rPr b="0" lang="sr-Latn-CS" sz="2200" spc="-1" strike="noStrike">
                <a:solidFill>
                  <a:srgbClr val="000000"/>
                </a:solidFill>
                <a:latin typeface="Arial Cirilica"/>
                <a:ea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леталитет </a:t>
            </a:r>
            <a:r>
              <a:rPr b="0" lang="sr-CS" sz="2200" spc="-1" strike="noStrike" u="sng">
                <a:solidFill>
                  <a:srgbClr val="000000"/>
                </a:solidFill>
                <a:uFillTx/>
                <a:latin typeface="Arial"/>
              </a:rPr>
              <a:t>висок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или бар тачно </a:t>
            </a:r>
            <a:r>
              <a:rPr b="0" lang="sr-CS" sz="2200" spc="-1" strike="noStrike" u="sng">
                <a:solidFill>
                  <a:srgbClr val="000000"/>
                </a:solidFill>
                <a:uFillTx/>
                <a:latin typeface="Arial"/>
              </a:rPr>
              <a:t>позна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8064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768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Cirilica"/>
                <a:ea typeface="Arial"/>
              </a:rPr>
              <a:t>→</a:t>
            </a:r>
            <a:r>
              <a:rPr b="0" lang="sr-Latn-CS" sz="2200" spc="-1" strike="noStrike">
                <a:solidFill>
                  <a:srgbClr val="000000"/>
                </a:solidFill>
                <a:latin typeface="Arial Cirilica"/>
                <a:ea typeface="Arial"/>
              </a:rPr>
              <a:t> </a:t>
            </a:r>
            <a:r>
              <a:rPr b="0" lang="sr-CS" sz="2200" spc="-1" strike="noStrike" u="sng">
                <a:solidFill>
                  <a:srgbClr val="000000"/>
                </a:solidFill>
                <a:uFillTx/>
                <a:latin typeface="Arial"/>
              </a:rPr>
              <a:t>болест акут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7416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cccc00"/>
                </a:solidFill>
                <a:latin typeface="Arial Cirilica"/>
              </a:rPr>
              <a:t>Извештаји о узроку смрти?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2727000"/>
            <a:ext cx="8229600" cy="19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Процена</a:t>
            </a:r>
            <a:r>
              <a:rPr b="1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промене броја</a:t>
            </a:r>
            <a:r>
              <a:rPr b="1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станов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Сагледавање</a:t>
            </a:r>
            <a:r>
              <a:rPr b="1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основних</a:t>
            </a:r>
            <a:r>
              <a:rPr b="1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демографских карактеристика умрлих</a:t>
            </a:r>
            <a:r>
              <a:rPr b="1" lang="en-US" sz="2800" spc="-1" strike="noStrike">
                <a:solidFill>
                  <a:srgbClr val="000000"/>
                </a:solidFill>
                <a:latin typeface="Arial Cirilica"/>
              </a:rPr>
              <a:t> (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пол</a:t>
            </a:r>
            <a:r>
              <a:rPr b="1" lang="en-US" sz="2800" spc="-1" strike="noStrike">
                <a:solidFill>
                  <a:srgbClr val="000000"/>
                </a:solidFill>
                <a:latin typeface="Arial Cirilica"/>
              </a:rPr>
              <a:t>,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узраст</a:t>
            </a:r>
            <a:r>
              <a:rPr b="1" lang="en-US" sz="2800" spc="-1" strike="noStrike">
                <a:solidFill>
                  <a:srgbClr val="000000"/>
                </a:solidFill>
                <a:latin typeface="Arial Cirilica"/>
              </a:rPr>
              <a:t>,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занимање</a:t>
            </a:r>
            <a:r>
              <a:rPr b="1" lang="sr-Latn-CS" sz="2800" spc="-1" strike="noStrike">
                <a:solidFill>
                  <a:srgbClr val="000000"/>
                </a:solidFill>
                <a:latin typeface="Arial Cirilic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59920"/>
            <a:ext cx="75438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cccc00"/>
                </a:solidFill>
                <a:latin typeface="Arial Cirilica"/>
              </a:rPr>
              <a:t>2.</a:t>
            </a:r>
            <a:r>
              <a:rPr b="1" lang="sr-CS" sz="3200" spc="-1" strike="noStrike">
                <a:solidFill>
                  <a:srgbClr val="cccc00"/>
                </a:solidFill>
                <a:latin typeface="Arial Cirilica"/>
              </a:rPr>
              <a:t> </a:t>
            </a:r>
            <a:r>
              <a:rPr b="1" lang="sr-CS" sz="3600" spc="-1" strike="noStrike" u="sng">
                <a:solidFill>
                  <a:srgbClr val="cccc00"/>
                </a:solidFill>
                <a:uFillTx/>
                <a:latin typeface="Arial Cirilica"/>
              </a:rPr>
              <a:t>Подаци матичне службе?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24000" y="2636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 Cirilica"/>
              </a:rPr>
              <a:t>+</a:t>
            </a:r>
            <a:r>
              <a:rPr b="0" lang="sr-Latn-C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годност ослањања на податке матичне служб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За процену промене броја станов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азматрање</a:t>
            </a:r>
            <a:r>
              <a:rPr b="1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епидемиолошке</a:t>
            </a:r>
            <a:r>
              <a:rPr b="1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итуације</a:t>
            </a:r>
            <a:r>
              <a:rPr b="1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а ужем подруч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 u="sng">
                <a:solidFill>
                  <a:srgbClr val="cccc00"/>
                </a:solidFill>
                <a:uFillTx/>
                <a:latin typeface="Arial Cirilica"/>
              </a:rPr>
              <a:t>Подаци матичне службе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 u="sng">
                <a:solidFill>
                  <a:srgbClr val="000000"/>
                </a:solidFill>
                <a:uFillTx/>
                <a:latin typeface="Arial Cirilica"/>
                <a:ea typeface="Arial"/>
              </a:rPr>
              <a:t>Опрезност</a:t>
            </a:r>
            <a:r>
              <a:rPr b="0" lang="sr-CS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(ограничења)</a:t>
            </a:r>
            <a:r>
              <a:rPr b="0" lang="sr-CS" sz="2600" spc="-1" strike="noStrike" u="sng">
                <a:solidFill>
                  <a:srgbClr val="000000"/>
                </a:solidFill>
                <a:uFillTx/>
                <a:latin typeface="Arial Cirilica"/>
                <a:ea typeface="Arial"/>
              </a:rPr>
              <a:t> при закључивању на основу </a:t>
            </a:r>
            <a:r>
              <a:rPr b="0" lang="sr-CS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одатака матичне службе, </a:t>
            </a:r>
            <a:r>
              <a:rPr b="1" lang="sr-CS" sz="2800" spc="-1" strike="noStrike">
                <a:solidFill>
                  <a:srgbClr val="000000"/>
                </a:solidFill>
                <a:latin typeface="Arial Cirilica"/>
              </a:rPr>
              <a:t>погрешни закључци</a:t>
            </a:r>
            <a:r>
              <a:rPr b="0" lang="sr-CS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!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0066"/>
                </a:solidFill>
                <a:latin typeface="Arial Cirilica"/>
                <a:ea typeface="Arial"/>
              </a:rPr>
              <a:t>Θ</a:t>
            </a:r>
            <a:r>
              <a:rPr b="0" lang="sr-CS" sz="2400" spc="-1" strike="noStrike">
                <a:solidFill>
                  <a:srgbClr val="330066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 евиденцији се воде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В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на територији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длежне матичне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лужбе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УМРЛ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лица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ез обзира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 место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њиховог сталног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оравка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en-US" sz="2400" spc="-1" strike="noStrike">
                <a:solidFill>
                  <a:srgbClr val="cccc00"/>
                </a:solidFill>
                <a:latin typeface="Arial Cirilica"/>
                <a:ea typeface="Arial"/>
              </a:rPr>
              <a:t>→</a:t>
            </a:r>
            <a:r>
              <a:rPr b="0" lang="sr-Latn-CS" sz="2400" spc="-1" strike="noStrike">
                <a:solidFill>
                  <a:srgbClr val="000000"/>
                </a:solidFill>
                <a:latin typeface="Arial Cirilica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црне тачке</a:t>
            </a:r>
            <a:r>
              <a:rPr b="0" lang="sr-Latn-C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агистралних путева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еста са великим 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ројем несрећа</a:t>
            </a:r>
            <a:r>
              <a:rPr b="0" lang="sr-CS" sz="2400" spc="-1" strike="noStrike">
                <a:solidFill>
                  <a:srgbClr val="000000"/>
                </a:solidFill>
                <a:latin typeface="Arial Cirilica"/>
              </a:rPr>
              <a:t>, привидно високе стопе морталитет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0066"/>
                </a:solidFill>
                <a:latin typeface="Arial Cirilica"/>
                <a:ea typeface="Arial"/>
              </a:rPr>
              <a:t>Θ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Житељи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мрли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ao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 рођени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) 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ван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подручја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oje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пада под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длежност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говарајуће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атичне службе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, 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Н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евидентирају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 у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њигама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0066"/>
                </a:solidFill>
                <a:latin typeface="Arial Cirilica"/>
                <a:ea typeface="Arial"/>
              </a:rPr>
              <a:t>Θ</a:t>
            </a:r>
            <a:r>
              <a:rPr b="0" lang="sr-Latn-CS" sz="2400" spc="-1" strike="noStrike">
                <a:solidFill>
                  <a:srgbClr val="330066"/>
                </a:solidFill>
                <a:latin typeface="Arial Cirilica"/>
                <a:ea typeface="Arial"/>
              </a:rPr>
              <a:t> </a:t>
            </a:r>
            <a:r>
              <a:rPr b="0" lang="sr-CS" sz="2400" spc="-1" strike="noStrike">
                <a:solidFill>
                  <a:srgbClr val="330066"/>
                </a:solidFill>
                <a:latin typeface="Arial"/>
                <a:ea typeface="Arial"/>
              </a:rPr>
              <a:t>П</a:t>
            </a:r>
            <a:r>
              <a:rPr b="0" lang="sr-CS" sz="2400" spc="-1" strike="noStrike">
                <a:solidFill>
                  <a:srgbClr val="000000"/>
                </a:solidFill>
                <a:latin typeface="Arial Cirilica"/>
                <a:ea typeface="Arial"/>
              </a:rPr>
              <a:t>одаци су</a:t>
            </a:r>
            <a:r>
              <a:rPr b="1" lang="sr-CS" sz="2400" spc="-1" strike="noStrike">
                <a:solidFill>
                  <a:srgbClr val="000000"/>
                </a:solidFill>
                <a:latin typeface="Arial Cirilica"/>
                <a:ea typeface="Arial"/>
              </a:rPr>
              <a:t> 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ОСКУДНИ</a:t>
            </a:r>
            <a:r>
              <a:rPr b="0" lang="sr-CS" sz="2400" spc="-1" strike="noStrike">
                <a:solidFill>
                  <a:srgbClr val="330066"/>
                </a:solidFill>
                <a:latin typeface="Arial Cirilica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ада је реч о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мирању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суство дијагнозе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могућује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зрачунавање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само општих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ли не и по узроку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пецифичних стопа морталит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23640" y="1125000"/>
            <a:ext cx="754380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330066"/>
                </a:solidFill>
                <a:latin typeface="Arial Cirilica"/>
              </a:rPr>
              <a:t>Категорије извора података о оболевању?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 Cirilica"/>
              </a:rPr>
              <a:t>    </a:t>
            </a:r>
            <a:r>
              <a:rPr b="1" lang="sr-CS" sz="2600" spc="-1" strike="noStrike">
                <a:solidFill>
                  <a:srgbClr val="cccc00"/>
                </a:solidFill>
                <a:latin typeface="Arial Cirilica"/>
              </a:rPr>
              <a:t>1.</a:t>
            </a:r>
            <a:r>
              <a:rPr b="1" lang="sr-CS" sz="26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600" spc="-1" strike="noStrike">
                <a:solidFill>
                  <a:srgbClr val="cccc00"/>
                </a:solidFill>
                <a:latin typeface="Arial Cirilica"/>
              </a:rPr>
              <a:t>Пријава болес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 Cirilica"/>
              </a:rPr>
              <a:t>    </a:t>
            </a:r>
            <a:r>
              <a:rPr b="1" lang="sr-CS" sz="2600" spc="-1" strike="noStrike">
                <a:solidFill>
                  <a:srgbClr val="cccc00"/>
                </a:solidFill>
                <a:latin typeface="Arial Cirilica"/>
              </a:rPr>
              <a:t>2.</a:t>
            </a:r>
            <a:r>
              <a:rPr b="1" lang="sr-CS" sz="26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600" spc="-1" strike="noStrike">
                <a:solidFill>
                  <a:srgbClr val="cccc00"/>
                </a:solidFill>
                <a:latin typeface="Arial Cirilica"/>
              </a:rPr>
              <a:t>Регистр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 Cirilica"/>
              </a:rPr>
              <a:t>         </a:t>
            </a:r>
            <a:r>
              <a:rPr b="1" lang="sr-CS" sz="2600" spc="-1" strike="noStrike">
                <a:solidFill>
                  <a:srgbClr val="000000"/>
                </a:solidFill>
                <a:latin typeface="Arial Cirilica"/>
              </a:rPr>
              <a:t>-оболели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 Cirilica"/>
              </a:rPr>
              <a:t>         </a:t>
            </a:r>
            <a:r>
              <a:rPr b="1" lang="sr-CS" sz="2600" spc="-1" strike="noStrike">
                <a:solidFill>
                  <a:srgbClr val="000000"/>
                </a:solidFill>
                <a:latin typeface="Arial Cirilica"/>
              </a:rPr>
              <a:t>-клицонош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 Cirilica"/>
              </a:rPr>
              <a:t>         </a:t>
            </a:r>
            <a:r>
              <a:rPr b="1" lang="sr-CS" sz="2600" spc="-1" strike="noStrike">
                <a:solidFill>
                  <a:srgbClr val="000000"/>
                </a:solidFill>
                <a:latin typeface="Arial Cirilica"/>
              </a:rPr>
              <a:t>-остал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 Cirilica"/>
              </a:rPr>
              <a:t>   </a:t>
            </a:r>
            <a:r>
              <a:rPr b="1" lang="sr-CS" sz="2600" spc="-1" strike="noStrike">
                <a:solidFill>
                  <a:srgbClr val="cccc00"/>
                </a:solidFill>
                <a:latin typeface="Arial Cirilica"/>
              </a:rPr>
              <a:t> </a:t>
            </a:r>
            <a:r>
              <a:rPr b="1" lang="sr-CS" sz="2600" spc="-1" strike="noStrike">
                <a:solidFill>
                  <a:srgbClr val="cccc00"/>
                </a:solidFill>
                <a:latin typeface="Arial Cirilica"/>
              </a:rPr>
              <a:t>3.</a:t>
            </a:r>
            <a:r>
              <a:rPr b="1" lang="sr-CS" sz="26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600" spc="-1" strike="noStrike">
                <a:solidFill>
                  <a:srgbClr val="cccc00"/>
                </a:solidFill>
                <a:latin typeface="Arial Cirilica"/>
              </a:rPr>
              <a:t>Подаци амбулантно поликлиничких   установ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 Cirilica"/>
              </a:rPr>
              <a:t>    </a:t>
            </a:r>
            <a:r>
              <a:rPr b="1" lang="sr-CS" sz="2600" spc="-1" strike="noStrike">
                <a:solidFill>
                  <a:srgbClr val="cccc00"/>
                </a:solidFill>
                <a:latin typeface="Arial Cirilica"/>
              </a:rPr>
              <a:t>4.</a:t>
            </a:r>
            <a:r>
              <a:rPr b="1" lang="sr-CS" sz="26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600" spc="-1" strike="noStrike">
                <a:solidFill>
                  <a:srgbClr val="cccc00"/>
                </a:solidFill>
                <a:latin typeface="Arial Cirilica"/>
              </a:rPr>
              <a:t>Подаци о хоспитализациј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 Cirilica"/>
              </a:rPr>
              <a:t>    </a:t>
            </a:r>
            <a:r>
              <a:rPr b="1" lang="sr-CS" sz="2600" spc="-1" strike="noStrike">
                <a:solidFill>
                  <a:srgbClr val="cccc00"/>
                </a:solidFill>
                <a:latin typeface="Arial Cirilica"/>
              </a:rPr>
              <a:t>5.</a:t>
            </a:r>
            <a:r>
              <a:rPr b="1" lang="sr-CS" sz="26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600" spc="-1" strike="noStrike">
                <a:solidFill>
                  <a:srgbClr val="cccc00"/>
                </a:solidFill>
                <a:latin typeface="Arial Cirilica"/>
              </a:rPr>
              <a:t>Остали извор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7677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cccc00"/>
                </a:solidFill>
                <a:latin typeface="Arial Cirilica"/>
              </a:rPr>
              <a:t>Пријава болести</a:t>
            </a:r>
            <a:r>
              <a:rPr b="1" lang="en-US" sz="4300" spc="-1" strike="noStrike">
                <a:solidFill>
                  <a:srgbClr val="330066"/>
                </a:solidFill>
                <a:latin typeface="Arial"/>
              </a:rPr>
              <a:t> - </a:t>
            </a: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Циљ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2296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Стална контрола епидемиолошке ситуације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Уочавање евентуалног пораста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броја оболели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редузимање противепидемијских ме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Евалуација ефикасности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римењених мера сузбијањ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cccc00"/>
                </a:solidFill>
                <a:latin typeface="Arial Cirilica"/>
              </a:rPr>
              <a:t>Пријава болести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На територији РС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бавезно се пријављује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7</a:t>
            </a:r>
            <a:r>
              <a:rPr b="0" lang="sr-Latn-CS" sz="3000" spc="-1" strike="noStrike">
                <a:solidFill>
                  <a:srgbClr val="000000"/>
                </a:solidFill>
                <a:latin typeface="Arial Cirilica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болести; са неким изузецима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(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ехинококоза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лепра и сл.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)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реч је о акутним поремећајима здрављ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cccc00"/>
                </a:solidFill>
                <a:latin typeface="Arial Cirilica"/>
              </a:rPr>
              <a:t>Пријава болести</a:t>
            </a:r>
            <a:r>
              <a:rPr b="1" lang="en-US" sz="43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50560" y="2150640"/>
            <a:ext cx="8569080" cy="31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900" spc="-1" strike="noStrike">
                <a:solidFill>
                  <a:srgbClr val="000000"/>
                </a:solidFill>
                <a:latin typeface="Arial Cirilica"/>
              </a:rPr>
              <a:t>Проценат зависи од</a:t>
            </a:r>
            <a:r>
              <a:rPr b="1" lang="en-US" sz="1900" spc="-1" strike="noStrike">
                <a:solidFill>
                  <a:srgbClr val="000000"/>
                </a:solidFill>
                <a:latin typeface="Arial Cirilica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37800" indent="-279000">
              <a:lnSpc>
                <a:spcPct val="80000"/>
              </a:lnSpc>
              <a:spcBef>
                <a:spcPts val="55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 Cirilica"/>
              </a:rPr>
              <a:t>Развијености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Arial Cirilica"/>
              </a:rPr>
              <a:t>доступности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 Cirilica"/>
              </a:rPr>
              <a:t>и коришћења </a:t>
            </a:r>
            <a:r>
              <a:rPr b="0" lang="sr-CS" sz="2200" spc="-1" strike="noStrike" u="sng">
                <a:solidFill>
                  <a:srgbClr val="000000"/>
                </a:solidFill>
                <a:uFillTx/>
                <a:latin typeface="Arial Cirilica"/>
              </a:rPr>
              <a:t>здравствене служб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37800" indent="-279000">
              <a:lnSpc>
                <a:spcPct val="80000"/>
              </a:lnSpc>
              <a:spcBef>
                <a:spcPts val="55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 u="sng">
                <a:solidFill>
                  <a:srgbClr val="000000"/>
                </a:solidFill>
                <a:uFillTx/>
                <a:latin typeface="Arial Cirilica"/>
              </a:rPr>
              <a:t>Тежине клиничке слике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 (</a:t>
            </a:r>
            <a:r>
              <a:rPr b="0" lang="sr-CS" sz="2200" spc="-1" strike="noStrike">
                <a:solidFill>
                  <a:srgbClr val="000000"/>
                </a:solidFill>
                <a:latin typeface="Arial Cirilica"/>
              </a:rPr>
              <a:t>када је у питању </a:t>
            </a:r>
            <a:r>
              <a:rPr b="0" lang="sr-CS" sz="2200" spc="-1" strike="noStrike" u="sng">
                <a:solidFill>
                  <a:srgbClr val="000000"/>
                </a:solidFill>
                <a:uFillTx/>
                <a:latin typeface="Arial Cirilica"/>
              </a:rPr>
              <a:t>лако</a:t>
            </a:r>
            <a:r>
              <a:rPr b="0" lang="sr-CS" sz="2200" spc="-1" strike="noStrike">
                <a:solidFill>
                  <a:srgbClr val="000000"/>
                </a:solidFill>
                <a:latin typeface="Arial Cirilica"/>
              </a:rPr>
              <a:t> оболење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Arial Cirilica"/>
              </a:rPr>
              <a:t>болесник се и НЕ обраћа лекару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37800" indent="-279000">
              <a:lnSpc>
                <a:spcPct val="80000"/>
              </a:lnSpc>
              <a:spcBef>
                <a:spcPts val="55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 Cirilica"/>
              </a:rPr>
              <a:t>Учесталости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200" spc="-1" strike="noStrike" u="sng">
                <a:solidFill>
                  <a:srgbClr val="000000"/>
                </a:solidFill>
                <a:uFillTx/>
                <a:latin typeface="Arial Cirilica"/>
              </a:rPr>
              <a:t>атипичних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 Cirilica"/>
              </a:rPr>
              <a:t>облика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 Cirilica"/>
              </a:rPr>
              <a:t>болести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 Cirilica"/>
              </a:rPr>
              <a:t>и </a:t>
            </a:r>
            <a:r>
              <a:rPr b="1" lang="sr-CS" sz="2200" spc="-1" strike="noStrike" u="sng">
                <a:solidFill>
                  <a:srgbClr val="000000"/>
                </a:solidFill>
                <a:uFillTx/>
                <a:latin typeface="Arial Cirilica"/>
              </a:rPr>
              <a:t>инапарентних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 Cirilica"/>
              </a:rPr>
              <a:t>инфекциј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37800" indent="-279000">
              <a:lnSpc>
                <a:spcPct val="80000"/>
              </a:lnSpc>
              <a:spcBef>
                <a:spcPts val="55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 u="sng">
                <a:solidFill>
                  <a:srgbClr val="000000"/>
                </a:solidFill>
                <a:uFillTx/>
                <a:latin typeface="Arial Cirilica"/>
              </a:rPr>
              <a:t>Диференцијално-дијагностичких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 Cirilica"/>
              </a:rPr>
              <a:t>проблема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 (</a:t>
            </a:r>
            <a:r>
              <a:rPr b="0" lang="sr-CS" sz="2200" spc="-1" strike="noStrike">
                <a:solidFill>
                  <a:srgbClr val="000000"/>
                </a:solidFill>
                <a:latin typeface="Arial Cirilica"/>
              </a:rPr>
              <a:t>нпр.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Arial Cirilica"/>
              </a:rPr>
              <a:t>антропозоонозе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 Cirilica"/>
              </a:rPr>
              <a:t>често промичу 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 Cirilica"/>
              </a:rPr>
              <a:t>под другом дијагнозом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37800" indent="-279000">
              <a:lnSpc>
                <a:spcPct val="80000"/>
              </a:lnSpc>
              <a:spcBef>
                <a:spcPts val="55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 Cirilica"/>
              </a:rPr>
              <a:t>Ажурности пријављивања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Arial Cirilica"/>
              </a:rPr>
              <a:t>итд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549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cccc00"/>
                </a:solidFill>
                <a:latin typeface="Arial Cirilica"/>
              </a:rPr>
              <a:t>Пријава болести</a:t>
            </a:r>
            <a:r>
              <a:rPr b="1" lang="en-US" sz="43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8360" y="2006640"/>
            <a:ext cx="8229600" cy="25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 Cirilica"/>
              </a:rPr>
              <a:t>По Међународном здравственом правилнику</a:t>
            </a:r>
            <a:r>
              <a:rPr b="1" lang="en-US" sz="2400" spc="-1" strike="noStrike">
                <a:solidFill>
                  <a:srgbClr val="000000"/>
                </a:solidFill>
                <a:latin typeface="Arial Cirilica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Arial Cirilica"/>
              </a:rPr>
              <a:t>све земље</a:t>
            </a:r>
            <a:r>
              <a:rPr b="1" lang="sr-Latn-C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 Cirilica"/>
              </a:rPr>
              <a:t>чланице</a:t>
            </a:r>
            <a:r>
              <a:rPr b="1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ЗО</a:t>
            </a:r>
            <a:r>
              <a:rPr b="1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 Cirilica"/>
              </a:rPr>
              <a:t>дужне су да</a:t>
            </a:r>
            <a:r>
              <a:rPr b="1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 Cirilica"/>
              </a:rPr>
              <a:t>најбржим путем</a:t>
            </a:r>
            <a:r>
              <a:rPr b="1" lang="en-US" sz="2400" spc="-1" strike="noStrike">
                <a:solidFill>
                  <a:srgbClr val="000000"/>
                </a:solidFill>
                <a:latin typeface="Arial Cirilica"/>
              </a:rPr>
              <a:t> (</a:t>
            </a:r>
            <a:r>
              <a:rPr b="1" lang="sr-CS" sz="2400" spc="-1" strike="noStrike">
                <a:solidFill>
                  <a:srgbClr val="000000"/>
                </a:solidFill>
                <a:latin typeface="Arial Cirilica"/>
              </a:rPr>
              <a:t>телексом или факсом</a:t>
            </a:r>
            <a:r>
              <a:rPr b="1" lang="en-US" sz="2400" spc="-1" strike="noStrike">
                <a:solidFill>
                  <a:srgbClr val="000000"/>
                </a:solidFill>
                <a:latin typeface="Arial Cirilica"/>
              </a:rPr>
              <a:t>) </a:t>
            </a:r>
            <a:r>
              <a:rPr b="1" lang="sr-CS" sz="2400" spc="-1" strike="noStrike">
                <a:solidFill>
                  <a:srgbClr val="000000"/>
                </a:solidFill>
                <a:latin typeface="Arial Cirilica"/>
              </a:rPr>
              <a:t>пријаве колеру</a:t>
            </a:r>
            <a:r>
              <a:rPr b="1" lang="en-US" sz="2400" spc="-1" strike="noStrike">
                <a:solidFill>
                  <a:srgbClr val="000000"/>
                </a:solidFill>
                <a:latin typeface="Arial Cirilica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Arial Cirilica"/>
              </a:rPr>
              <a:t>кугу и жуту грозницу</a:t>
            </a:r>
            <a:r>
              <a:rPr b="1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 Cirilica"/>
              </a:rPr>
              <a:t>(СУМЊА И ПОТВРДА ПОСТИЈАЊ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 Cirilica"/>
              </a:rPr>
              <a:t>Под надзором СЗО</a:t>
            </a:r>
            <a:r>
              <a:rPr b="1" lang="sr-Latn-CS" sz="2400" spc="-1" strike="noStrike">
                <a:solidFill>
                  <a:srgbClr val="000000"/>
                </a:solidFill>
                <a:latin typeface="Arial Cirilic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 Cirilica"/>
              </a:rPr>
              <a:t>пегавац</a:t>
            </a:r>
            <a:r>
              <a:rPr b="1" lang="en-US" sz="2400" spc="-1" strike="noStrike">
                <a:solidFill>
                  <a:srgbClr val="000000"/>
                </a:solidFill>
                <a:latin typeface="Arial Cirilica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Arial Cirilica"/>
              </a:rPr>
              <a:t>повратна грозница</a:t>
            </a:r>
            <a:r>
              <a:rPr b="1" lang="en-US" sz="2400" spc="-1" strike="noStrike">
                <a:solidFill>
                  <a:srgbClr val="000000"/>
                </a:solidFill>
                <a:latin typeface="Arial Cirilica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Arial Cirilica"/>
              </a:rPr>
              <a:t>паралитички полиомијелитис</a:t>
            </a:r>
            <a:r>
              <a:rPr b="1" lang="en-US" sz="2400" spc="-1" strike="noStrike">
                <a:solidFill>
                  <a:srgbClr val="000000"/>
                </a:solidFill>
                <a:latin typeface="Arial Cirilica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Arial Cirilica"/>
              </a:rPr>
              <a:t>маларија</a:t>
            </a:r>
            <a:r>
              <a:rPr b="1" lang="sr-Latn-CS" sz="2400" spc="-1" strike="noStrike">
                <a:solidFill>
                  <a:srgbClr val="000000"/>
                </a:solidFill>
                <a:latin typeface="Arial Cirilica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Arial Cirilica"/>
              </a:rPr>
              <a:t>грип</a:t>
            </a:r>
            <a:r>
              <a:rPr b="1" lang="sr-Latn-CS" sz="2400" spc="-1" strike="noStrike">
                <a:solidFill>
                  <a:srgbClr val="000000"/>
                </a:solidFill>
                <a:latin typeface="Arial Cirilica"/>
              </a:rPr>
              <a:t> ...</a:t>
            </a:r>
            <a:r>
              <a:rPr b="0" lang="en-US" sz="21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 Cirilica"/>
              </a:rPr>
              <a:t>Извори података о оболевању и умирању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4358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330066"/>
                </a:solidFill>
                <a:latin typeface="Arial"/>
                <a:ea typeface="Arial"/>
              </a:rPr>
              <a:t>Услови за мерење </a:t>
            </a:r>
            <a:r>
              <a:rPr b="1" lang="sr-CS" sz="3000" spc="-1" strike="noStrike">
                <a:solidFill>
                  <a:srgbClr val="330066"/>
                </a:solidFill>
                <a:latin typeface="Arial"/>
                <a:ea typeface="Arial"/>
              </a:rPr>
              <a:t>учесталости</a:t>
            </a:r>
            <a:r>
              <a:rPr b="0" lang="sr-CS" sz="3000" spc="-1" strike="noStrike">
                <a:solidFill>
                  <a:srgbClr val="330066"/>
                </a:solidFill>
                <a:latin typeface="Arial"/>
                <a:ea typeface="Arial"/>
              </a:rPr>
              <a:t> болести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 Cirilica"/>
              </a:rPr>
              <a:t>Располагање подацима о ПОПУЛАЦИЈИ (СТАНОВНИШТВУ)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100000"/>
              </a:lnSpc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 Cirilica"/>
              </a:rPr>
              <a:t>Располагање подацима о ОБОЛЕЛИМ, односно УМРЛИМ особа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7543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cccc00"/>
                </a:solidFill>
                <a:latin typeface="Arial Cirilica"/>
              </a:rPr>
              <a:t>2. Регистри?</a:t>
            </a:r>
            <a:r>
              <a:rPr b="1" lang="en-US" sz="43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cccc00"/>
                </a:solidFill>
                <a:latin typeface="Times Cirilica"/>
                <a:ea typeface="Arial"/>
              </a:rPr>
              <a:t>►</a:t>
            </a:r>
            <a:r>
              <a:rPr b="0" lang="en-US" sz="3000" spc="-1" strike="noStrike">
                <a:solidFill>
                  <a:srgbClr val="000000"/>
                </a:solidFill>
                <a:latin typeface="Times Cirilica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Углавном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бухватају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оједине хроничне болести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и/или стања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cccc00"/>
                </a:solidFill>
                <a:latin typeface="Times Cirilica"/>
                <a:ea typeface="Arial"/>
              </a:rPr>
              <a:t>►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редстављају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отпунији начин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раћења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кретања поремећаја здрављ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cccc00"/>
                </a:solidFill>
                <a:latin typeface="Arial Cirilica"/>
              </a:rPr>
              <a:t>Регистри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могућавају да се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 сваком тренутку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асполаже не само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 подацима о инциденцији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ећ и о преваленцији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рајању и исходу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дређеног патолошког ст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 Cirilica"/>
                <a:ea typeface="Arial"/>
              </a:rPr>
              <a:t>Прецизно сагледа учест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л</a:t>
            </a:r>
            <a:r>
              <a:rPr b="0" lang="sr-CS" sz="2800" spc="-1" strike="noStrike">
                <a:solidFill>
                  <a:srgbClr val="000000"/>
                </a:solidFill>
                <a:latin typeface="Arial Cirilica"/>
                <a:ea typeface="Arial"/>
              </a:rPr>
              <a:t>ост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Arial Cirilica"/>
                <a:ea typeface="Arial"/>
              </a:rPr>
              <a:t>распрострањеност, ток и прогно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sr-CS" sz="3600" spc="-1" strike="noStrike">
                <a:solidFill>
                  <a:srgbClr val="cccc00"/>
                </a:solidFill>
                <a:latin typeface="Arial Cirilica"/>
              </a:rPr>
              <a:t>Регистри оболелих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 Cirilica"/>
              </a:rPr>
              <a:t>На територији Србије</a:t>
            </a:r>
            <a:r>
              <a:rPr b="0" lang="en-US" sz="26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 Cirilica"/>
              </a:rPr>
              <a:t>воде се регистри</a:t>
            </a:r>
            <a:r>
              <a:rPr b="0" lang="en-US" sz="26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 Cirilica"/>
              </a:rPr>
              <a:t>за</a:t>
            </a:r>
            <a:r>
              <a:rPr b="0" lang="en-US" sz="2600" spc="-1" strike="noStrike">
                <a:solidFill>
                  <a:srgbClr val="000000"/>
                </a:solidFill>
                <a:latin typeface="Arial Cirilica"/>
              </a:rPr>
              <a:t> 11 </a:t>
            </a:r>
            <a:r>
              <a:rPr b="0" lang="sr-CS" sz="2600" spc="-1" strike="noStrike">
                <a:solidFill>
                  <a:srgbClr val="000000"/>
                </a:solidFill>
                <a:latin typeface="Arial Cirilica"/>
              </a:rPr>
              <a:t>болести</a:t>
            </a:r>
            <a:r>
              <a:rPr b="0" lang="en-US" sz="2600" spc="-1" strike="noStrike">
                <a:solidFill>
                  <a:srgbClr val="000000"/>
                </a:solidFill>
                <a:latin typeface="Arial Cirilica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Arial Cirilica"/>
              </a:rPr>
              <a:t>односно група болести</a:t>
            </a:r>
            <a:r>
              <a:rPr b="0" lang="en-US" sz="2600" spc="-1" strike="noStrike">
                <a:solidFill>
                  <a:srgbClr val="000000"/>
                </a:solidFill>
                <a:latin typeface="Arial Cirilic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Arial Cirilica"/>
              </a:rPr>
              <a:t>психоз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Arial Cirilica"/>
              </a:rPr>
              <a:t>реуматску грозницу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7e9ce8"/>
                </a:solidFill>
                <a:latin typeface="Arial Cirilica"/>
              </a:rPr>
              <a:t>малигна обољењ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7e9ce8"/>
                </a:solidFill>
                <a:latin typeface="Arial Cirilica"/>
              </a:rPr>
              <a:t>шећерну болес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Arial Cirilica"/>
              </a:rPr>
              <a:t>ендемску нефропатију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Arial Cirilica"/>
              </a:rPr>
              <a:t>прогресивне мишићне дистрофиј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Arial Cirilica"/>
              </a:rPr>
              <a:t>хемофилију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Arial Cirilica"/>
              </a:rPr>
              <a:t>хроничну инсуфицујенцију бубрег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7e9ce8"/>
                </a:solidFill>
                <a:latin typeface="Arial Cirilica"/>
              </a:rPr>
              <a:t>коронарну болест срц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Arial Cirilica"/>
              </a:rPr>
              <a:t>опструктивну болест плућ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Arial Cirilica"/>
              </a:rPr>
              <a:t>наркоманиј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sr-CS" sz="3600" spc="-1" strike="noStrike">
                <a:solidFill>
                  <a:srgbClr val="cccc00"/>
                </a:solidFill>
                <a:latin typeface="Arial Cirilica"/>
              </a:rPr>
              <a:t>Регистри клицоноша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Картотека за лица која су</a:t>
            </a:r>
            <a:r>
              <a:rPr b="0" lang="en-US" sz="26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преболела поједине</a:t>
            </a:r>
            <a:r>
              <a:rPr b="0" lang="en-US" sz="26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болести и/или</a:t>
            </a:r>
            <a:r>
              <a:rPr b="0" lang="en-US" sz="26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излучују њихове проузроковаче</a:t>
            </a:r>
            <a:r>
              <a:rPr b="0" lang="en-US" sz="26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 Cirilica"/>
              </a:rPr>
              <a:t>(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обољења која могу да доведу</a:t>
            </a:r>
            <a:r>
              <a:rPr b="0" lang="en-US" sz="26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до хроничног клицоноштва</a:t>
            </a:r>
            <a:r>
              <a:rPr b="0" lang="sr-CS" sz="2600" spc="-1" strike="noStrike">
                <a:solidFill>
                  <a:srgbClr val="000000"/>
                </a:solidFill>
                <a:latin typeface="Arial Cirilic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 Cirilica"/>
                <a:ea typeface="Arial"/>
              </a:rPr>
              <a:t>	</a:t>
            </a:r>
            <a:r>
              <a:rPr b="0" lang="sr-Latn-CS" sz="2600" spc="-1" strike="noStrike">
                <a:solidFill>
                  <a:srgbClr val="000000"/>
                </a:solidFill>
                <a:latin typeface="Arial Cirilica"/>
                <a:ea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 Cirilica"/>
                <a:ea typeface="Arial"/>
              </a:rPr>
              <a:t>►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цревне болести</a:t>
            </a:r>
            <a:r>
              <a:rPr b="0" lang="en-US" sz="2600" spc="-1" strike="noStrike">
                <a:solidFill>
                  <a:srgbClr val="000000"/>
                </a:solidFill>
                <a:latin typeface="Arial Cirilica"/>
              </a:rPr>
              <a:t> –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салмонелозе и шигелоз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0" lang="en-US" sz="2600" spc="-1" strike="noStrike">
                <a:solidFill>
                  <a:srgbClr val="000000"/>
                </a:solidFill>
                <a:latin typeface="Arial Cirilica"/>
                <a:ea typeface="Arial"/>
              </a:rPr>
              <a:t>►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вођење евиденције</a:t>
            </a:r>
            <a:r>
              <a:rPr b="0" lang="en-US" sz="26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носилаца</a:t>
            </a:r>
            <a:r>
              <a:rPr b="0" lang="en-US" sz="2600" spc="-1" strike="noStrike">
                <a:solidFill>
                  <a:srgbClr val="000000"/>
                </a:solidFill>
                <a:latin typeface="Arial Cirilica"/>
              </a:rPr>
              <a:t> HBs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антигена и антител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 Cirilica"/>
                <a:ea typeface="Arial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Arial Cirilica"/>
                <a:ea typeface="Arial"/>
              </a:rPr>
              <a:t>    </a:t>
            </a:r>
            <a:r>
              <a:rPr b="0" lang="sr-CS" sz="2600" spc="-1" strike="noStrike">
                <a:solidFill>
                  <a:srgbClr val="000000"/>
                </a:solidFill>
                <a:latin typeface="Arial Cirilica"/>
                <a:ea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 Cirilica"/>
                <a:ea typeface="Arial"/>
              </a:rPr>
              <a:t>►</a:t>
            </a:r>
            <a:r>
              <a:rPr b="0" lang="sr-CS" sz="2600" spc="-1" strike="noStrike">
                <a:solidFill>
                  <a:srgbClr val="000000"/>
                </a:solidFill>
                <a:latin typeface="Arial Cirilica"/>
                <a:ea typeface="Arial"/>
              </a:rPr>
              <a:t>лучење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Arial Cirilica"/>
                <a:ea typeface="Arial"/>
              </a:rPr>
              <a:t>.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yphi</a:t>
            </a:r>
            <a:r>
              <a:rPr b="0" lang="en-US" sz="2600" spc="-1" strike="noStrike">
                <a:solidFill>
                  <a:srgbClr val="000000"/>
                </a:solidFill>
                <a:latin typeface="Arial Cirilica"/>
                <a:ea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 Cirilica"/>
                <a:ea typeface="Arial"/>
              </a:rPr>
              <a:t>и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Arial Cirilica"/>
                <a:ea typeface="Arial"/>
              </a:rPr>
              <a:t>.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aratyphi</a:t>
            </a:r>
            <a:r>
              <a:rPr b="0" lang="sr-CS" sz="2600" spc="-1" strike="noStrike">
                <a:solidFill>
                  <a:srgbClr val="000000"/>
                </a:solidFill>
                <a:latin typeface="Arial Cirilica"/>
                <a:ea typeface="Arial"/>
              </a:rPr>
              <a:t> (позивање на контролне прегледе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sr-CS" sz="3600" spc="-1" strike="noStrike">
                <a:solidFill>
                  <a:srgbClr val="cccc00"/>
                </a:solidFill>
                <a:latin typeface="Arial Cirilica"/>
              </a:rPr>
              <a:t>Остали регистри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24000" y="2060280"/>
            <a:ext cx="8229600" cy="39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00"/>
                </a:solidFill>
                <a:latin typeface="Arial Cirilica"/>
              </a:rPr>
              <a:t>Регистри различитих</a:t>
            </a:r>
            <a:r>
              <a:rPr b="1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Arial Cirilica"/>
              </a:rPr>
              <a:t>врста инвалидности</a:t>
            </a:r>
            <a:r>
              <a:rPr b="1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Arial Cirilica"/>
              </a:rPr>
              <a:t>значајн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10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 Cirilica"/>
              </a:rPr>
              <a:t>са социјалне и административне тачке гледишт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10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 Cirilica"/>
              </a:rPr>
              <a:t>процену епидемиолошке ситуације</a:t>
            </a:r>
            <a:r>
              <a:rPr b="0" lang="en-US" sz="23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100000"/>
              </a:lnSpc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 Cirilica"/>
              </a:rPr>
              <a:t>предузимање мер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cccc00"/>
                </a:solidFill>
                <a:latin typeface="Arial Cirilica"/>
              </a:rPr>
              <a:t>3</a:t>
            </a:r>
            <a:r>
              <a:rPr b="1" lang="en-US" sz="3600" spc="-1" strike="noStrike">
                <a:solidFill>
                  <a:srgbClr val="cccc00"/>
                </a:solidFill>
                <a:latin typeface="Arial Cirilica"/>
              </a:rPr>
              <a:t>.</a:t>
            </a:r>
            <a:r>
              <a:rPr b="1" lang="sr-CS" sz="3600" spc="-1" strike="noStrike">
                <a:solidFill>
                  <a:srgbClr val="cccc00"/>
                </a:solidFill>
                <a:latin typeface="Arial Cirilica"/>
              </a:rPr>
              <a:t> Подаци амбулантно-поликлиничких установа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бољења и стања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утврђена код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НЕхоспитализованих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ацијената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 </a:t>
            </a:r>
            <a:r>
              <a:rPr b="0" lang="sr-CS" sz="3000" spc="-1" strike="noStrike">
                <a:solidFill>
                  <a:srgbClr val="000000"/>
                </a:solidFill>
                <a:latin typeface="Arial Cirilica"/>
              </a:rPr>
              <a:t>(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амбуланте 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диспанзери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домови здравља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и друге здравствене установе</a:t>
            </a:r>
            <a:r>
              <a:rPr b="0" lang="sr-CS" sz="3000" spc="-1" strike="noStrike">
                <a:solidFill>
                  <a:srgbClr val="000000"/>
                </a:solidFill>
                <a:latin typeface="Arial Cirilica"/>
              </a:rPr>
              <a:t>)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осебно се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брађују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и објављују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у одговарајућим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убликација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cccc00"/>
                </a:solidFill>
                <a:latin typeface="Arial Cirilica"/>
              </a:rPr>
              <a:t>Подаци амбулантно-поликлиничких установа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 Cirilica"/>
              </a:rPr>
              <a:t>Омогућавају сагледавање </a:t>
            </a:r>
            <a:r>
              <a:rPr b="0" lang="sr-CS" sz="3000" spc="-1" strike="noStrike" u="sng">
                <a:solidFill>
                  <a:srgbClr val="000000"/>
                </a:solidFill>
                <a:uFillTx/>
                <a:latin typeface="Arial Cirilica"/>
              </a:rPr>
              <a:t>учесталости</a:t>
            </a:r>
            <a:r>
              <a:rPr b="0" lang="sr-CS" sz="3000" spc="-1" strike="noStrike">
                <a:solidFill>
                  <a:srgbClr val="000000"/>
                </a:solidFill>
                <a:latin typeface="Arial Cirilica"/>
              </a:rPr>
              <a:t> и релативне заступљености појединих патолошких стања дијагностикованих у служби опште медицине и у специјалистичким служба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 Cirilica"/>
              </a:rPr>
              <a:t>Здравствени радници самостално анализирају податке везане за популацију о чијем се здрављу старај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94920" y="836280"/>
            <a:ext cx="7488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cccc00"/>
                </a:solidFill>
                <a:latin typeface="Arial Cirilica"/>
              </a:rPr>
              <a:t>4.</a:t>
            </a:r>
            <a:r>
              <a:rPr b="1" lang="sr-CS" sz="3200" spc="-1" strike="noStrike">
                <a:solidFill>
                  <a:srgbClr val="cccc00"/>
                </a:solidFill>
                <a:latin typeface="Arial Cirilica"/>
              </a:rPr>
              <a:t> </a:t>
            </a:r>
            <a:r>
              <a:rPr b="1" lang="sr-CS" sz="3600" spc="-1" strike="noStrike">
                <a:solidFill>
                  <a:srgbClr val="cccc00"/>
                </a:solidFill>
                <a:latin typeface="Arial Cirilica"/>
              </a:rPr>
              <a:t>Подаци о хоспитализацији?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24000" y="2556000"/>
            <a:ext cx="8362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0000"/>
                </a:solidFill>
                <a:latin typeface="Arial Cirilica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Значајан извор</a:t>
            </a:r>
            <a:r>
              <a:rPr b="0" lang="en-US" sz="36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морбидитетних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 података</a:t>
            </a:r>
            <a:r>
              <a:rPr b="0" lang="en-US" sz="36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 Cirilica"/>
              </a:rPr>
              <a:t>(прецизније сазнање о учесталости и структури појединих поремећаја здравља) због </a:t>
            </a:r>
            <a:r>
              <a:rPr b="0" lang="sr-CS" sz="3600" spc="-1" strike="noStrike" u="sng">
                <a:solidFill>
                  <a:srgbClr val="000000"/>
                </a:solidFill>
                <a:uFillTx/>
                <a:latin typeface="Arial Cirilica"/>
              </a:rPr>
              <a:t>квалитета дијагности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77500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cccc00"/>
                </a:solidFill>
                <a:latin typeface="Arial Cirilica"/>
              </a:rPr>
              <a:t>Подаци о хоспитализацији</a:t>
            </a:r>
            <a:r>
              <a:rPr b="1" lang="en-US" sz="3500" spc="-1" strike="noStrike">
                <a:solidFill>
                  <a:srgbClr val="330066"/>
                </a:solidFill>
                <a:latin typeface="Arial Cirilica"/>
              </a:rPr>
              <a:t> </a:t>
            </a:r>
            <a:r>
              <a:rPr b="1" lang="sr-CS" sz="2400" spc="-1" strike="noStrike">
                <a:solidFill>
                  <a:srgbClr val="cccc00"/>
                </a:solidFill>
                <a:latin typeface="Arial Cirilica"/>
              </a:rPr>
              <a:t>(о особама леченим у стационарној установи)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9280" y="1719000"/>
            <a:ext cx="896472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0066"/>
                </a:solidFill>
                <a:latin typeface="Arial Cirilica"/>
                <a:ea typeface="Arial"/>
              </a:rPr>
              <a:t>Θ</a:t>
            </a:r>
            <a:r>
              <a:rPr b="0" lang="en-US" sz="21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100" spc="-1" strike="noStrike">
                <a:solidFill>
                  <a:srgbClr val="000000"/>
                </a:solidFill>
                <a:latin typeface="Arial"/>
              </a:rPr>
              <a:t>Ограничења при интерпретацији података</a:t>
            </a:r>
            <a:r>
              <a:rPr b="1" lang="sr-CS" sz="2100" spc="-1" strike="noStrike">
                <a:solidFill>
                  <a:srgbClr val="000000"/>
                </a:solidFill>
                <a:latin typeface="Arial Cirilica"/>
              </a:rPr>
              <a:t>, погрешни закључци</a:t>
            </a:r>
            <a:r>
              <a:rPr b="1" lang="sr-CS" sz="21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5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ека обољења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лече се болнички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увек или скоро увек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а нека никад или скоро ника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5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 u="sng">
                <a:solidFill>
                  <a:srgbClr val="000000"/>
                </a:solidFill>
                <a:uFillTx/>
                <a:latin typeface="Arial"/>
              </a:rPr>
              <a:t>О карактеристикама</a:t>
            </a:r>
            <a:r>
              <a:rPr b="1" lang="en-US" sz="2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одређене болести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 (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учесталости појединих манифестација</a:t>
            </a:r>
            <a:r>
              <a:rPr b="1" lang="en-US" sz="2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или ризику неповољног исхода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)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уди се само </a:t>
            </a:r>
            <a:r>
              <a:rPr b="0" lang="sr-CS" sz="2200" spc="-1" strike="noStrike" u="sng">
                <a:solidFill>
                  <a:srgbClr val="000000"/>
                </a:solidFill>
                <a:uFillTx/>
                <a:latin typeface="Arial"/>
              </a:rPr>
              <a:t>на основу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 Cirilica"/>
              </a:rPr>
              <a:t> </a:t>
            </a:r>
            <a:r>
              <a:rPr b="0" lang="sr-CS" sz="2200" spc="-1" strike="noStrike" u="sng">
                <a:solidFill>
                  <a:srgbClr val="000000"/>
                </a:solidFill>
                <a:uFillTx/>
                <a:latin typeface="Arial"/>
              </a:rPr>
              <a:t>хоспиталне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статистике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јер се </a:t>
            </a:r>
            <a:r>
              <a:rPr b="0" lang="sr-CS" sz="2200" spc="-1" strike="noStrike" u="sng">
                <a:solidFill>
                  <a:srgbClr val="000000"/>
                </a:solidFill>
                <a:uFillTx/>
                <a:latin typeface="Arial"/>
              </a:rPr>
              <a:t>игноришу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 Cirilica"/>
              </a:rPr>
              <a:t> </a:t>
            </a:r>
            <a:r>
              <a:rPr b="0" lang="sr-CS" sz="2200" spc="-1" strike="noStrike" u="sng">
                <a:solidFill>
                  <a:srgbClr val="000000"/>
                </a:solidFill>
                <a:uFillTx/>
                <a:latin typeface="Arial"/>
              </a:rPr>
              <a:t>блажи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облици за које постоји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мања вероватноћа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да ће захтевати болнички третман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5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Шансе да се буде хоспитализован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условљене су развијеношћу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здравствене службе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и стањем болничких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капацитета а</a:t>
            </a:r>
            <a:r>
              <a:rPr b="0" lang="sr-CS" sz="2200" spc="-1" strike="noStrike">
                <a:solidFill>
                  <a:srgbClr val="000000"/>
                </a:solidFill>
                <a:latin typeface="Arial Cirilica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у оквиру исте територије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ејаднаке су за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разлишите социјалне слојеве</a:t>
            </a:r>
            <a:r>
              <a:rPr b="0" lang="en-US" sz="22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sr-CS" sz="3200" spc="-1" strike="noStrike">
                <a:solidFill>
                  <a:srgbClr val="cccc00"/>
                </a:solidFill>
                <a:latin typeface="Arial Cirilica"/>
              </a:rPr>
              <a:t>Подаци о хоспитализацији</a:t>
            </a:r>
            <a:r>
              <a:rPr b="1" lang="en-US" sz="3500" spc="-1" strike="noStrike">
                <a:solidFill>
                  <a:srgbClr val="330066"/>
                </a:solidFill>
                <a:latin typeface="Arial Cirilica"/>
              </a:rPr>
              <a:t> </a:t>
            </a:r>
            <a:r>
              <a:rPr b="1" lang="sr-CS" sz="2400" spc="-1" strike="noStrike">
                <a:solidFill>
                  <a:srgbClr val="cccc00"/>
                </a:solidFill>
                <a:latin typeface="Arial Cirilica"/>
              </a:rPr>
              <a:t>(о особама леченим у стационарној установи)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2366640"/>
            <a:ext cx="8229600" cy="16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0066"/>
                </a:solidFill>
                <a:latin typeface="Arial Cirilica"/>
                <a:ea typeface="Arial"/>
              </a:rPr>
              <a:t>Θ</a:t>
            </a:r>
            <a:r>
              <a:rPr b="0" lang="sr-Latn-CS" sz="1600" spc="-1" strike="noStrike">
                <a:solidFill>
                  <a:srgbClr val="cccc00"/>
                </a:solidFill>
                <a:latin typeface="Arial Cirilica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Ограничења при интерпретацији података</a:t>
            </a:r>
            <a:r>
              <a:rPr b="1" lang="sr-CS" sz="2400" spc="-1" strike="noStrike">
                <a:solidFill>
                  <a:srgbClr val="000000"/>
                </a:solidFill>
                <a:latin typeface="Arial Cirilica"/>
              </a:rPr>
              <a:t>, погрешни закључци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sr-Latn-CS" sz="2400" spc="-1" strike="noStrike">
                <a:solidFill>
                  <a:srgbClr val="cccc00"/>
                </a:solidFill>
                <a:latin typeface="Arial Cirilic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ешко израчунати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орбидитет на основу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датака о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оспитализацији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je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j</a:t>
            </a:r>
            <a:r>
              <a:rPr b="0" lang="sr-Latn-CS" sz="2400" spc="-1" strike="noStrike">
                <a:solidFill>
                  <a:srgbClr val="000000"/>
                </a:solidFill>
                <a:latin typeface="Arial Cirilic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именитењ</a:t>
            </a:r>
            <a:r>
              <a:rPr b="0" lang="sr-CS" sz="2400" spc="-1" strike="noStrike">
                <a:solidFill>
                  <a:srgbClr val="000000"/>
                </a:solidFill>
                <a:latin typeface="Arial Cirilica"/>
              </a:rPr>
              <a:t>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говарајућа</a:t>
            </a:r>
            <a:r>
              <a:rPr b="0" lang="en-US" sz="24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пулација</a:t>
            </a:r>
            <a:r>
              <a:rPr b="0" lang="sr-CS" sz="2400" spc="-1" strike="noStrike">
                <a:solidFill>
                  <a:srgbClr val="000000"/>
                </a:solidFill>
                <a:latin typeface="Arial Cirilica"/>
              </a:rPr>
              <a:t>)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коро немогуће установи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280" y="191628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330066"/>
                </a:solidFill>
                <a:latin typeface="Arial Cirilica"/>
              </a:rPr>
              <a:t>ПОДАЦИ</a:t>
            </a:r>
            <a:r>
              <a:rPr b="1" lang="en-US" sz="3200" spc="-1" strike="noStrike">
                <a:solidFill>
                  <a:srgbClr val="330066"/>
                </a:solidFill>
                <a:latin typeface="Arial Cirilica"/>
              </a:rPr>
              <a:t> </a:t>
            </a:r>
            <a:r>
              <a:rPr b="1" lang="sr-CS" sz="3200" spc="-1" strike="noStrike">
                <a:solidFill>
                  <a:srgbClr val="330066"/>
                </a:solidFill>
                <a:latin typeface="Arial Cirilica"/>
              </a:rPr>
              <a:t>(</a:t>
            </a:r>
            <a:r>
              <a:rPr b="0" lang="sr-CS" sz="3500" spc="-1" strike="noStrike">
                <a:solidFill>
                  <a:srgbClr val="330066"/>
                </a:solidFill>
                <a:latin typeface="Arial Cirilica"/>
              </a:rPr>
              <a:t>Категорије извора података</a:t>
            </a:r>
            <a:r>
              <a:rPr b="1" lang="sr-CS" sz="3200" spc="-1" strike="noStrike">
                <a:solidFill>
                  <a:srgbClr val="330066"/>
                </a:solidFill>
                <a:latin typeface="Arial Cirilica"/>
              </a:rPr>
              <a:t>)</a:t>
            </a:r>
            <a:r>
              <a:rPr b="1" lang="en-US" sz="3200" spc="-1" strike="noStrike">
                <a:solidFill>
                  <a:srgbClr val="330066"/>
                </a:solidFill>
                <a:latin typeface="Arial Cirilica"/>
              </a:rPr>
              <a:t> </a:t>
            </a:r>
            <a:r>
              <a:rPr b="1" lang="sr-CS" sz="3200" spc="-1" strike="noStrike">
                <a:solidFill>
                  <a:srgbClr val="330066"/>
                </a:solidFill>
                <a:latin typeface="Arial Cirilica"/>
              </a:rPr>
              <a:t>О ПОПУЛАЦИЈИ </a:t>
            </a:r>
            <a:r>
              <a:rPr b="1" lang="sr-CS" sz="4000" spc="-1" strike="noStrike">
                <a:solidFill>
                  <a:srgbClr val="330066"/>
                </a:solidFill>
                <a:latin typeface="Arial Cirilica"/>
              </a:rPr>
              <a:t>?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3259080"/>
            <a:ext cx="7129800" cy="15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cccc00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cccc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cccc00"/>
                </a:solidFill>
                <a:latin typeface="Arial"/>
              </a:rPr>
              <a:t>ПОПИС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Arial"/>
              </a:rPr>
              <a:t>2. </a:t>
            </a:r>
            <a:r>
              <a:rPr b="1" lang="sr-CS" sz="3200" spc="-1" strike="noStrike">
                <a:solidFill>
                  <a:srgbClr val="cccc00"/>
                </a:solidFill>
                <a:latin typeface="Arial"/>
              </a:rPr>
              <a:t>Други извори података о популациј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54936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cccc00"/>
                </a:solidFill>
                <a:latin typeface="Arial Cirilica"/>
              </a:rPr>
              <a:t>5.Остали извори</a:t>
            </a:r>
            <a:r>
              <a:rPr b="1" lang="en-US" sz="3900" spc="-1" strike="noStrike">
                <a:solidFill>
                  <a:srgbClr val="330066"/>
                </a:solidFill>
                <a:latin typeface="Arial Cirilica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8360" y="2446200"/>
            <a:ext cx="8229600" cy="29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00"/>
                </a:solidFill>
                <a:latin typeface="Arial Cirilica"/>
              </a:rPr>
              <a:t>Заводи за здравствено</a:t>
            </a:r>
            <a:r>
              <a:rPr b="1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Arial Cirilica"/>
              </a:rPr>
              <a:t>и пензијско</a:t>
            </a:r>
            <a:r>
              <a:rPr b="1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Arial Cirilica"/>
              </a:rPr>
              <a:t>осигурањ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00"/>
                </a:solidFill>
                <a:latin typeface="Arial Cirilica"/>
              </a:rPr>
              <a:t>Систематски прегледи</a:t>
            </a:r>
            <a:r>
              <a:rPr b="1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 Cirilica"/>
              </a:rPr>
              <a:t>појединих категорија популациј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900" spc="-1" strike="noStrike">
                <a:solidFill>
                  <a:srgbClr val="cccc00"/>
                </a:solidFill>
                <a:latin typeface="Arial Cirilica"/>
              </a:rPr>
              <a:t> </a:t>
            </a:r>
            <a:r>
              <a:rPr b="1" lang="sr-CS" sz="3900" spc="-1" strike="noStrike">
                <a:solidFill>
                  <a:srgbClr val="cccc00"/>
                </a:solidFill>
                <a:latin typeface="Arial Cirilica"/>
              </a:rPr>
              <a:t>Остали извори</a:t>
            </a:r>
            <a:r>
              <a:rPr b="1" lang="en-US" sz="3900" spc="-1" strike="noStrike">
                <a:solidFill>
                  <a:srgbClr val="330066"/>
                </a:solidFill>
                <a:latin typeface="Arial Cirilica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00"/>
                </a:solidFill>
                <a:latin typeface="Arial"/>
              </a:rPr>
              <a:t>Анкетирање</a:t>
            </a:r>
            <a:r>
              <a:rPr b="1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репрезентативног узорка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опулациј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00"/>
                </a:solidFill>
                <a:latin typeface="Arial"/>
              </a:rPr>
              <a:t>Циљна теренска испитивањ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 Cirilica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74167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 Cirilica"/>
              </a:rPr>
              <a:t>3. </a:t>
            </a:r>
            <a:r>
              <a:rPr b="1" lang="sr-CS" sz="2600" spc="-1" strike="noStrike">
                <a:solidFill>
                  <a:srgbClr val="ff0000"/>
                </a:solidFill>
                <a:latin typeface="Arial Cirilica"/>
              </a:rPr>
              <a:t>УЛОГА ЛЕКАРА ОПШТЕ МЕДИЦИНЕ</a:t>
            </a:r>
            <a:r>
              <a:rPr b="1" lang="en-US" sz="2600" spc="-1" strike="noStrike">
                <a:solidFill>
                  <a:srgbClr val="ff0000"/>
                </a:solidFill>
                <a:latin typeface="Arial Cirilica"/>
              </a:rPr>
              <a:t> </a:t>
            </a:r>
            <a:r>
              <a:rPr b="1" lang="sr-CS" sz="2600" spc="-1" strike="noStrike">
                <a:solidFill>
                  <a:srgbClr val="ff0000"/>
                </a:solidFill>
                <a:latin typeface="Arial Cirilica"/>
              </a:rPr>
              <a:t>У ОБЕЗБЕЂЕЊУ</a:t>
            </a:r>
            <a:r>
              <a:rPr b="1" lang="en-US" sz="2600" spc="-1" strike="noStrike">
                <a:solidFill>
                  <a:srgbClr val="ff0000"/>
                </a:solidFill>
                <a:latin typeface="Arial Cirilica"/>
              </a:rPr>
              <a:t> </a:t>
            </a:r>
            <a:r>
              <a:rPr b="1" lang="sr-CS" sz="2600" spc="-1" strike="noStrike">
                <a:solidFill>
                  <a:srgbClr val="ff0000"/>
                </a:solidFill>
                <a:latin typeface="Arial Cirilica"/>
              </a:rPr>
              <a:t>И КОРИШЋЕЊУ ПОДАТАКА</a:t>
            </a:r>
            <a:r>
              <a:rPr b="1" lang="en-US" sz="3500" spc="-1" strike="noStrike">
                <a:solidFill>
                  <a:srgbClr val="330066"/>
                </a:solidFill>
                <a:latin typeface="Arial Cirilica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507520" cy="264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en-US" sz="3000" spc="-1" strike="noStrike">
                <a:solidFill>
                  <a:srgbClr val="ff0000"/>
                </a:solidFill>
                <a:latin typeface="Arial Cirilica"/>
                <a:ea typeface="Arial"/>
              </a:rPr>
              <a:t>►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Квалитет података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обезбеђује лекар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д тога како ће се болест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ијагностиковати</a:t>
            </a:r>
            <a:r>
              <a:rPr b="0" lang="sr-Latn-CS" sz="2800" spc="-1" strike="noStrike">
                <a:solidFill>
                  <a:srgbClr val="000000"/>
                </a:solidFill>
                <a:latin typeface="Arial Cirilica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евидентирати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дносно пријавити</a:t>
            </a:r>
            <a:r>
              <a:rPr b="0" lang="sr-Latn-C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ависи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ачност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аснијих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едстава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 епидемиолошкој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итуациј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 Cirilica"/>
              </a:rPr>
              <a:t>3. </a:t>
            </a:r>
            <a:r>
              <a:rPr b="1" lang="sr-CS" sz="2600" spc="-1" strike="noStrike">
                <a:solidFill>
                  <a:srgbClr val="ff0000"/>
                </a:solidFill>
                <a:latin typeface="Arial Cirilica"/>
              </a:rPr>
              <a:t>УЛОГА ЛЕКАРА ОПШТЕ МЕДИЦИНЕ</a:t>
            </a:r>
            <a:r>
              <a:rPr b="1" lang="en-US" sz="2600" spc="-1" strike="noStrike">
                <a:solidFill>
                  <a:srgbClr val="ff0000"/>
                </a:solidFill>
                <a:latin typeface="Arial Cirilica"/>
              </a:rPr>
              <a:t> </a:t>
            </a:r>
            <a:r>
              <a:rPr b="1" lang="sr-CS" sz="2600" spc="-1" strike="noStrike">
                <a:solidFill>
                  <a:srgbClr val="ff0000"/>
                </a:solidFill>
                <a:latin typeface="Arial Cirilica"/>
              </a:rPr>
              <a:t>У ОБЕЗБЕЂЕЊУ</a:t>
            </a:r>
            <a:r>
              <a:rPr b="1" lang="en-US" sz="2600" spc="-1" strike="noStrike">
                <a:solidFill>
                  <a:srgbClr val="ff0000"/>
                </a:solidFill>
                <a:latin typeface="Arial Cirilica"/>
              </a:rPr>
              <a:t> </a:t>
            </a:r>
            <a:r>
              <a:rPr b="1" lang="sr-CS" sz="2600" spc="-1" strike="noStrike">
                <a:solidFill>
                  <a:srgbClr val="ff0000"/>
                </a:solidFill>
                <a:latin typeface="Arial Cirilica"/>
              </a:rPr>
              <a:t>И КОРИШЋЕЊУ ПОДАТАКА</a:t>
            </a:r>
            <a:r>
              <a:rPr b="1" lang="en-US" sz="3500" spc="-1" strike="noStrike">
                <a:solidFill>
                  <a:srgbClr val="330066"/>
                </a:solidFill>
                <a:latin typeface="Arial Cirilica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Упознавањем</a:t>
            </a:r>
            <a:r>
              <a:rPr b="1" lang="en-US" sz="26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распрострањености и учесталости</a:t>
            </a:r>
            <a:r>
              <a:rPr b="1" lang="en-US" sz="26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појединих патолошких стања</a:t>
            </a:r>
            <a:r>
              <a:rPr b="1" lang="sr-CS" sz="26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 Cirilica"/>
              </a:rPr>
              <a:t>може с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Утврдити њихов значај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Сагледати факторе удружене са њиховом појаво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Одредити мере спречавања</a:t>
            </a:r>
            <a:r>
              <a:rPr b="1" lang="en-US" sz="26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и сузбијања</a:t>
            </a:r>
            <a:r>
              <a:rPr b="1" lang="sr-CS" sz="2600" spc="-1" strike="noStrike">
                <a:solidFill>
                  <a:srgbClr val="000000"/>
                </a:solidFill>
                <a:latin typeface="Arial Cirilica"/>
              </a:rPr>
              <a:t> болес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Праћењем кретања болести</a:t>
            </a:r>
            <a:r>
              <a:rPr b="1" lang="sr-CS" sz="26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кориговати мере</a:t>
            </a:r>
            <a:r>
              <a:rPr b="1" lang="en-US" sz="26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спречавања и сузбијањ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Планирати развој здравствене служб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Предузети различите административне мере</a:t>
            </a:r>
            <a:r>
              <a:rPr b="1" lang="en-US" sz="26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330066"/>
                </a:solidFill>
                <a:latin typeface="Arial Cirilica"/>
              </a:rPr>
              <a:t>ПОДАЦИ</a:t>
            </a:r>
            <a:r>
              <a:rPr b="1" lang="en-US" sz="3200" spc="-1" strike="noStrike">
                <a:solidFill>
                  <a:srgbClr val="330066"/>
                </a:solidFill>
                <a:latin typeface="Arial Cirilica"/>
              </a:rPr>
              <a:t> </a:t>
            </a:r>
            <a:r>
              <a:rPr b="1" lang="sr-CS" sz="3200" spc="-1" strike="noStrike">
                <a:solidFill>
                  <a:srgbClr val="330066"/>
                </a:solidFill>
                <a:latin typeface="Arial Cirilica"/>
              </a:rPr>
              <a:t>(ИЗВОРИ ПОДАТАКА)</a:t>
            </a:r>
            <a:r>
              <a:rPr b="1" lang="en-US" sz="3200" spc="-1" strike="noStrike">
                <a:solidFill>
                  <a:srgbClr val="330066"/>
                </a:solidFill>
                <a:latin typeface="Arial Cirilica"/>
              </a:rPr>
              <a:t> </a:t>
            </a:r>
            <a:r>
              <a:rPr b="1" lang="sr-CS" sz="3200" spc="-1" strike="noStrike">
                <a:solidFill>
                  <a:srgbClr val="330066"/>
                </a:solidFill>
                <a:latin typeface="Arial Cirilica"/>
              </a:rPr>
              <a:t>О ПОПУЛАЦИЈИ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- </a:t>
            </a:r>
            <a:r>
              <a:rPr b="1" lang="sr-CS" sz="4200" spc="-1" strike="noStrike">
                <a:solidFill>
                  <a:srgbClr val="cccc00"/>
                </a:solidFill>
                <a:latin typeface="Arial"/>
              </a:rPr>
              <a:t>ПОПИСИ</a:t>
            </a:r>
            <a:endParaRPr b="1" lang="en-US" sz="4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50920" y="2295360"/>
            <a:ext cx="8642160" cy="27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300" spc="-1" strike="noStrike">
                <a:solidFill>
                  <a:srgbClr val="ff0000"/>
                </a:solidFill>
                <a:latin typeface="Arial Cirilica"/>
              </a:rPr>
              <a:t>+</a:t>
            </a:r>
            <a:r>
              <a:rPr b="1" lang="sr-CS" sz="2500" spc="-1" strike="noStrike">
                <a:solidFill>
                  <a:srgbClr val="000000"/>
                </a:solidFill>
                <a:latin typeface="Arial"/>
              </a:rPr>
              <a:t> Пописи становништва</a:t>
            </a:r>
            <a:r>
              <a:rPr b="1" lang="en-US" sz="25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Latn-CS" sz="2500" spc="-1" strike="noStrike">
                <a:solidFill>
                  <a:srgbClr val="000000"/>
                </a:solidFill>
                <a:latin typeface="Arial Cirilica"/>
              </a:rPr>
              <a:t>=</a:t>
            </a:r>
            <a:r>
              <a:rPr b="0" lang="en-US" sz="25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свеобухватан</a:t>
            </a:r>
            <a:r>
              <a:rPr b="0" lang="en-US" sz="2500" spc="-1" strike="noStrike">
                <a:solidFill>
                  <a:srgbClr val="000000"/>
                </a:solidFill>
                <a:latin typeface="Arial Cirilica"/>
              </a:rPr>
              <a:t>,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поуздан</a:t>
            </a:r>
            <a:r>
              <a:rPr b="0" lang="en-US" sz="25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5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тачан</a:t>
            </a:r>
            <a:r>
              <a:rPr b="0" lang="en-US" sz="25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извор</a:t>
            </a:r>
            <a:r>
              <a:rPr b="0" lang="en-US" sz="25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података</a:t>
            </a:r>
            <a:r>
              <a:rPr b="0" lang="en-US" sz="25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о популацији</a:t>
            </a:r>
            <a:r>
              <a:rPr b="0" lang="en-US" sz="25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изложеној</a:t>
            </a:r>
            <a:r>
              <a:rPr b="0" lang="en-US" sz="25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ризику</a:t>
            </a:r>
            <a:r>
              <a:rPr b="0" lang="en-US" sz="25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оболевања</a:t>
            </a:r>
            <a:r>
              <a:rPr b="0" lang="sr-Latn-CS" sz="25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(умирања)</a:t>
            </a:r>
            <a:r>
              <a:rPr b="0" lang="en-US" sz="25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cc00"/>
                </a:solidFill>
                <a:latin typeface="Arial Cirilica"/>
                <a:ea typeface="Arial"/>
              </a:rPr>
              <a:t>       →</a:t>
            </a:r>
            <a:r>
              <a:rPr b="0" lang="sr-Latn-CS" sz="2500" spc="-1" strike="noStrike">
                <a:solidFill>
                  <a:srgbClr val="000000"/>
                </a:solidFill>
                <a:latin typeface="Arial Cirilica"/>
                <a:ea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целокупној или</a:t>
            </a:r>
            <a:r>
              <a:rPr b="0" lang="en-US" sz="25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cc00"/>
                </a:solidFill>
                <a:latin typeface="Arial Cirilica"/>
                <a:ea typeface="Arial"/>
              </a:rPr>
              <a:t>       →</a:t>
            </a:r>
            <a:r>
              <a:rPr b="0" lang="en-US" sz="25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појединим</a:t>
            </a:r>
            <a:r>
              <a:rPr b="0" lang="en-US" sz="25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њеним сегментим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cccc00"/>
                </a:solidFill>
                <a:latin typeface="Arial"/>
              </a:rPr>
              <a:t>Пописи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500" spc="-1" strike="noStrike">
                <a:solidFill>
                  <a:srgbClr val="000000"/>
                </a:solidFill>
                <a:latin typeface="Arial"/>
              </a:rPr>
              <a:t>Истраживач заинтересован</a:t>
            </a:r>
            <a:r>
              <a:rPr b="1" lang="en-US" sz="25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500" spc="-1" strike="noStrike">
                <a:solidFill>
                  <a:srgbClr val="000000"/>
                </a:solidFill>
                <a:latin typeface="Arial"/>
              </a:rPr>
              <a:t>за период који</a:t>
            </a:r>
            <a:r>
              <a:rPr b="1" lang="en-US" sz="25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500" spc="-1" strike="noStrike">
                <a:solidFill>
                  <a:srgbClr val="000000"/>
                </a:solidFill>
                <a:latin typeface="Arial"/>
              </a:rPr>
              <a:t>НЕ одговара времену пописа?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Број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 структура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тановника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СТАБИЛНИ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интервал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змеђу 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писа и истраживања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РАТ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Број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 структура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тановника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НИСУ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стабилни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интервал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змеђу 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писа и истраживања</a:t>
            </a:r>
            <a:r>
              <a:rPr b="0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ЕЛ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cccc00"/>
                </a:solidFill>
                <a:latin typeface="Arial"/>
              </a:rPr>
              <a:t>Пописи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Истраживач заинтересован</a:t>
            </a:r>
            <a:r>
              <a:rPr b="1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за период који</a:t>
            </a:r>
            <a:r>
              <a:rPr b="1" lang="en-US" sz="28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НЕ одговара времену пописа?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Сам истраживач,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увидом у књиге рођених и умрлих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роцени промене броја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и структуре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становништ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Кориговани подаци већ постоје са проценама и пројекцијама за већа подручја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700" spc="-1" strike="noStrike">
                <a:solidFill>
                  <a:srgbClr val="cccc00"/>
                </a:solidFill>
                <a:latin typeface="Arial"/>
              </a:rPr>
              <a:t>Други извори података о популацији</a:t>
            </a:r>
            <a:endParaRPr b="1" lang="en-US" sz="37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37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cc00"/>
                </a:solidFill>
                <a:latin typeface="Arial Cirilica"/>
                <a:ea typeface="Arial"/>
              </a:rPr>
              <a:t>□</a:t>
            </a:r>
            <a:r>
              <a:rPr b="0" lang="sr-Latn-CS" sz="3000" spc="-1" strike="noStrike">
                <a:solidFill>
                  <a:srgbClr val="cccc00"/>
                </a:solidFill>
                <a:latin typeface="Arial Cirilica"/>
                <a:ea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  <a:ea typeface="Arial"/>
              </a:rPr>
              <a:t>Подаци месне заједнице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cc00"/>
                </a:solidFill>
                <a:latin typeface="Arial Cirilica"/>
                <a:ea typeface="Arial"/>
              </a:rPr>
              <a:t>□</a:t>
            </a:r>
            <a:r>
              <a:rPr b="0" lang="sr-Latn-CS" sz="3000" spc="-1" strike="noStrike">
                <a:solidFill>
                  <a:srgbClr val="cccc00"/>
                </a:solidFill>
                <a:latin typeface="Arial Cirilica"/>
                <a:ea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  <a:ea typeface="Arial"/>
              </a:rPr>
              <a:t>Бирачки спискови</a:t>
            </a:r>
            <a:r>
              <a:rPr b="0" lang="sr-Latn-CS" sz="3000" spc="-1" strike="noStrike">
                <a:solidFill>
                  <a:srgbClr val="000000"/>
                </a:solidFill>
                <a:latin typeface="Arial Cirilica"/>
                <a:ea typeface="Arial"/>
              </a:rPr>
              <a:t> </a:t>
            </a:r>
            <a:r>
              <a:rPr b="0" lang="sr-Latn-CS" sz="3000" spc="-1" strike="noStrike">
                <a:solidFill>
                  <a:srgbClr val="330066"/>
                </a:solidFill>
                <a:latin typeface="Arial Cirilica"/>
                <a:ea typeface="Arial"/>
              </a:rPr>
              <a:t>→</a:t>
            </a:r>
            <a:r>
              <a:rPr b="0" lang="sr-Latn-CS" sz="3000" spc="-1" strike="noStrike">
                <a:solidFill>
                  <a:srgbClr val="000000"/>
                </a:solidFill>
                <a:latin typeface="Arial Cirilica"/>
                <a:ea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испитивања везана 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само за 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опулацију одраслих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cc00"/>
                </a:solidFill>
                <a:latin typeface="Arial Cirilica"/>
                <a:ea typeface="Arial"/>
              </a:rPr>
              <a:t>□</a:t>
            </a:r>
            <a:r>
              <a:rPr b="0" lang="sr-Latn-CS" sz="3000" spc="-1" strike="noStrike">
                <a:solidFill>
                  <a:srgbClr val="cccc00"/>
                </a:solidFill>
                <a:latin typeface="Arial Cirilica"/>
                <a:ea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  <a:ea typeface="Arial"/>
              </a:rPr>
              <a:t>Списак пореских обвезника</a:t>
            </a:r>
            <a:r>
              <a:rPr b="0" lang="sr-Latn-CS" sz="3000" spc="-1" strike="noStrike">
                <a:solidFill>
                  <a:srgbClr val="000000"/>
                </a:solidFill>
                <a:latin typeface="Arial Cirilica"/>
                <a:ea typeface="Arial"/>
              </a:rPr>
              <a:t> </a:t>
            </a:r>
            <a:r>
              <a:rPr b="0" lang="sr-Latn-CS" sz="3000" spc="-1" strike="noStrike">
                <a:solidFill>
                  <a:srgbClr val="330066"/>
                </a:solidFill>
                <a:latin typeface="Arial Cirilica"/>
                <a:ea typeface="Arial"/>
              </a:rPr>
              <a:t>→</a:t>
            </a:r>
            <a:r>
              <a:rPr b="0" lang="sr-Latn-CS" sz="3000" spc="-1" strike="noStrike">
                <a:solidFill>
                  <a:srgbClr val="000000"/>
                </a:solidFill>
                <a:latin typeface="Arial Cirilica"/>
                <a:ea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јединица </a:t>
            </a: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осматрања домаћинство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cc00"/>
                </a:solidFill>
                <a:latin typeface="Arial Cirilica"/>
                <a:ea typeface="Arial"/>
              </a:rPr>
              <a:t>□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На терену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 ad hoc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прикупљени подац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Cirilic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280" y="105264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 Cirilica"/>
              </a:rPr>
              <a:t>Категорије извора података о умирању и рађању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4000" y="2636640"/>
            <a:ext cx="822960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cccc00"/>
                </a:solidFill>
                <a:latin typeface="Arial Cirilica"/>
              </a:rPr>
              <a:t>1</a:t>
            </a:r>
            <a:r>
              <a:rPr b="1" lang="en-US" sz="3600" spc="-1" strike="noStrike">
                <a:solidFill>
                  <a:srgbClr val="cccc00"/>
                </a:solidFill>
                <a:latin typeface="Arial Cirilica"/>
              </a:rPr>
              <a:t>. </a:t>
            </a:r>
            <a:r>
              <a:rPr b="1" lang="sr-CS" sz="3600" spc="-1" strike="noStrike">
                <a:solidFill>
                  <a:srgbClr val="cccc00"/>
                </a:solidFill>
                <a:latin typeface="Arial Cirilica"/>
              </a:rPr>
              <a:t>Извештаји о узроку смрт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cc00"/>
                </a:solidFill>
                <a:latin typeface="Arial Cirilica"/>
              </a:rPr>
              <a:t>2. </a:t>
            </a:r>
            <a:r>
              <a:rPr b="1" lang="sr-CS" sz="3600" spc="-1" strike="noStrike">
                <a:solidFill>
                  <a:srgbClr val="cccc00"/>
                </a:solidFill>
                <a:latin typeface="Arial Cirilica"/>
              </a:rPr>
              <a:t>Подаци матичне службе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691920"/>
            <a:ext cx="75438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ccc00"/>
                </a:solidFill>
                <a:uFillTx/>
                <a:latin typeface="Arial Cirilica"/>
              </a:rPr>
              <a:t>1.</a:t>
            </a:r>
            <a:r>
              <a:rPr b="1" lang="sr-CS" sz="3600" spc="-1" strike="noStrike" u="sng">
                <a:solidFill>
                  <a:srgbClr val="cccc00"/>
                </a:solidFill>
                <a:uFillTx/>
                <a:latin typeface="Arial Cirilica"/>
              </a:rPr>
              <a:t>Извештаји о узроку смрти?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921440" cy="32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900" spc="-1" strike="noStrike">
                <a:solidFill>
                  <a:srgbClr val="000000"/>
                </a:solidFill>
                <a:latin typeface="Arial"/>
              </a:rPr>
              <a:t>Законска обавеза</a:t>
            </a:r>
            <a:r>
              <a:rPr b="0" lang="en-US" sz="29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900" spc="-1" strike="noStrike">
                <a:solidFill>
                  <a:srgbClr val="000000"/>
                </a:solidFill>
                <a:latin typeface="Arial"/>
              </a:rPr>
              <a:t>да лекар за умрло лице</a:t>
            </a:r>
            <a:r>
              <a:rPr b="0" lang="en-US" sz="29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900" spc="-1" strike="noStrike">
                <a:solidFill>
                  <a:srgbClr val="000000"/>
                </a:solidFill>
                <a:latin typeface="Arial"/>
              </a:rPr>
              <a:t>попуни</a:t>
            </a:r>
            <a:r>
              <a:rPr b="0" lang="en-US" sz="29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900" spc="-1" strike="noStrike">
                <a:solidFill>
                  <a:srgbClr val="000000"/>
                </a:solidFill>
                <a:latin typeface="Arial"/>
              </a:rPr>
              <a:t>извештај</a:t>
            </a:r>
            <a:r>
              <a:rPr b="0" lang="en-US" sz="29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CS" sz="2900" spc="-1" strike="noStrike">
                <a:solidFill>
                  <a:srgbClr val="000000"/>
                </a:solidFill>
                <a:latin typeface="Arial"/>
              </a:rPr>
              <a:t>о узроку смрти</a:t>
            </a:r>
            <a:r>
              <a:rPr b="0" lang="sr-Latn-CS" sz="29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Latn-CS" sz="2900" spc="-1" strike="noStrike">
                <a:solidFill>
                  <a:srgbClr val="000000"/>
                </a:solidFill>
                <a:latin typeface="Arial Cirilica"/>
                <a:ea typeface="Arial"/>
              </a:rPr>
              <a:t>→ </a:t>
            </a:r>
            <a:r>
              <a:rPr b="0" lang="sr-CS" sz="2900" spc="-1" strike="noStrike">
                <a:solidFill>
                  <a:srgbClr val="000000"/>
                </a:solidFill>
                <a:latin typeface="Arial"/>
                <a:ea typeface="Arial"/>
              </a:rPr>
              <a:t>надлежни матичари</a:t>
            </a:r>
            <a:r>
              <a:rPr b="0" lang="sr-Latn-CS" sz="2900" spc="-1" strike="noStrike">
                <a:solidFill>
                  <a:srgbClr val="000000"/>
                </a:solidFill>
                <a:latin typeface="Arial Cirilica"/>
                <a:ea typeface="Arial"/>
              </a:rPr>
              <a:t> → </a:t>
            </a:r>
            <a:r>
              <a:rPr b="0" lang="sr-CS" sz="2900" spc="-1" strike="noStrike">
                <a:solidFill>
                  <a:srgbClr val="000000"/>
                </a:solidFill>
                <a:latin typeface="Arial"/>
              </a:rPr>
              <a:t>регион</a:t>
            </a:r>
            <a:r>
              <a:rPr b="0" lang="sr-Latn-CS" sz="2900" spc="-1" strike="noStrike">
                <a:solidFill>
                  <a:srgbClr val="000000"/>
                </a:solidFill>
                <a:latin typeface="Arial Cirilica"/>
              </a:rPr>
              <a:t> </a:t>
            </a:r>
            <a:r>
              <a:rPr b="0" lang="sr-Latn-CS" sz="2900" spc="-1" strike="noStrike">
                <a:solidFill>
                  <a:srgbClr val="000000"/>
                </a:solidFill>
                <a:latin typeface="Arial Cirilica"/>
                <a:ea typeface="Arial"/>
              </a:rPr>
              <a:t>→ </a:t>
            </a:r>
            <a:r>
              <a:rPr b="0" lang="sr-CS" sz="2900" spc="-1" strike="noStrike">
                <a:solidFill>
                  <a:srgbClr val="000000"/>
                </a:solidFill>
                <a:latin typeface="Arial"/>
              </a:rPr>
              <a:t>Републички завод за статистику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700" spc="-1" strike="noStrike">
                <a:solidFill>
                  <a:srgbClr val="ff0000"/>
                </a:solidFill>
                <a:latin typeface="Arial Cirilica"/>
              </a:rPr>
              <a:t>+</a:t>
            </a:r>
            <a:r>
              <a:rPr b="0" lang="sr-CS" sz="2900" spc="-1" strike="noStrike">
                <a:solidFill>
                  <a:srgbClr val="000000"/>
                </a:solidFill>
                <a:latin typeface="Arial"/>
              </a:rPr>
              <a:t> Погодност ослањања на морталитетну статистику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8:00:34Z</dcterms:created>
  <dc:creator>User</dc:creator>
  <dc:description/>
  <dc:language>en-US</dc:language>
  <cp:lastModifiedBy> </cp:lastModifiedBy>
  <dcterms:modified xsi:type="dcterms:W3CDTF">2015-09-05T06:33:33Z</dcterms:modified>
  <cp:revision>212</cp:revision>
  <dc:subject/>
  <dc:title>Slide 1</dc:title>
</cp:coreProperties>
</file>