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1D4-46EB-47BF-86DC-054F2409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2B3-C347-42D3-9AB8-BC92D8AF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C6B-EFB1-4B43-A3B2-40D89C55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93FC-57E7-4385-ABA4-66B5C440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3EF8-CFC2-40B9-A0F7-2083FF99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7488-872C-4BCC-BF39-CA9A179A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52DC-AC29-4E5D-ACC0-05D50C96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E35C-D60B-4EDF-9F3C-E94BBA23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9342-DCA8-4DAD-961A-5423FBD7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42EA-8258-4CA1-92E8-06176AC5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4743-CF17-4B8A-A432-FCC4AC18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E00-3235-44C8-BEE3-E7E7FE46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09A9-768B-4B9F-AFA3-6EBBC1FA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4D33-737B-4B15-89C7-EFFE1A26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F3C83-B6A3-47F4-9506-E43DD83F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C594-785C-4CF1-A614-06DEC9203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8B4F-7ED3-42BD-A0C2-60C0E36B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F0B-FDE0-4F48-89EE-DE31E829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789-38D7-4E99-A08D-51EDBE42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C72-BCE3-49D3-8545-714FBB0F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FC9-6FF4-4770-8DC4-8C0EEF2E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5C30-3D54-4CAD-A496-52F7617F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3D5-0F15-4C4F-9C02-FDE9CD86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AD1-59F7-4DA3-B20B-58448323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D080-0EBA-468A-8276-AF43FDE4CB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8B84-0EB3-44F1-95D8-4BAFF5E5DC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72388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МЕРЕ ЗДРАВЉА И БОЛЕ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5322960" cy="11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ф. Др Весна Пант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Карактеристике стоп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аве стоп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стопа рађања (бр. новорођених на 1000 становника током годин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“густина инциденције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“сила морталитета”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опорције традиционално назване стоп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преваленција (“стопа” преваленц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кумулативна инциденција (“стопа” кумулативне инциденциј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леталитет (“стопа” леталитет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 бр. умрлих одојчади на 1000 новорођених (“стопа” смртности одојчад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рачунавање стопа за </a:t>
            </a:r>
            <a:r>
              <a:rPr b="1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колектив (малу груп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менилац је збир трајања изложености сваког појединц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за сваког испитаника израчунати време изложеност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20 лекара превентиваца, предавање трајало 2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 од легионелозе оболело 6 учесни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опорција оболелих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b, CI,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“стопа” јављ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6/20</a:t>
            </a:r>
            <a:r>
              <a:rPr b="0" lang="sr-Latn-CS" sz="2600" spc="-1" strike="noStrike" baseline="-20000">
                <a:solidFill>
                  <a:srgbClr val="000000"/>
                </a:solidFill>
                <a:latin typeface="Arial"/>
              </a:rPr>
              <a:t>h+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2=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/10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20=20%   Разлика између две пропорциј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4/10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=0,40=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0%   Мања отпорност епидемиолог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опа оболе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боле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  </a:t>
            </a:r>
            <a:r>
              <a:rPr b="1" lang="sr-CS" sz="37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 х 1 сат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-сати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лекару-сату излож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4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болел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  </a:t>
            </a:r>
            <a:r>
              <a:rPr b="1" lang="sr-CS" sz="37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0,2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10 лекара х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сат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20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лекара-сати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лекару-сату излож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менилац (х) стопе  у/х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 Концепт особа-време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чунање стопа з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читаво подручје или читаву држ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 изложености сваког појединца није могуће израчун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именилац се узима популација средином посматраног периода која верно одражава број особа-година посмат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*)У групи од 10 људи умрле су 4 особе током једн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орција умрлих 4/10=0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4              4    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       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______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  __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=  0,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6*1+4*1/2      6+2    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23920" y="586692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умрлих по години посматрања (500                                      умрлих на 1000 особа-година посматрања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8088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Концепт особа-времена (вежба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зултати тестирања два контрацептивна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пирала А          спирала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. испитив. же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300                       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. нежељ. трудноћ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3              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еме почетка испитив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рани јануар    рани септемб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реме евалуаци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сред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X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сред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 трудно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па инциденције=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ир особа-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збир периода током којих је посматрана свака учесница студи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-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Концепт особа-времена (вежба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За спиралу 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                  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опа инциденције=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_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 ________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00х10 мес.    250 ж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 0,012 трудноћа по жени-години посматр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 1,2 трудноће на 100 жена-година праћ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-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Концепт особа-времена (вежба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За спиралу 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опа инциденције  =  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_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00 х 2 мес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                                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__________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 ________________________________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600 жена-месеци    50 жена-година праћ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0,02 трудноће по жени-години посматр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2 трудноће на 100 жена-година посматр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ЦИДЕНЦИЈА (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опом инциденције исказује се одн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Броја новонасталих догађаја (оболевања, повређив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Збира особа-времена изложености, односно процењеног броја становника средином посматраног периода као прихватљиве апрокси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новонас. догађ. у одређеном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800" spc="-1" strike="noStrike" baseline="50000">
                <a:solidFill>
                  <a:srgbClr val="000000"/>
                </a:solidFill>
                <a:latin typeface="Arial"/>
              </a:rPr>
              <a:t>___________________</a:t>
            </a:r>
            <a:r>
              <a:rPr b="1" lang="sr-Latn-CS" sz="2800" spc="-1" strike="noStrike" baseline="50000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ир особа-времена излож. (поп. сред. посм. пе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ЦИДЕНЦИЈА (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I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ОНГИТУДИНАЛНЕ СТУД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. новонасталих догађ у одређеном пери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пулација на почетку тог периода (сви грађа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виси од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дужине периода посматра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*) 10 новорођенчади праћено 10 год., 9 оболелих у том пери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_____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=0,9=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9                          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___________________________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+2+3+4+5+6+7+8+9+10      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=0,16=16 на 100 особа-година посмат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Р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жава однос укупног броја постојећих догађаја (оболевања, повређивања) у једној тачки времена (обично један дан) и броја становника у истој временској тач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бог временске ограничености назива се и тачком превален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догађ. (порем. здравља) у једн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=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4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_________________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 у том тренут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ОДНО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редност добијена када се једна величина подели другом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: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ројилац (номинатор) и именилац (деноминатор) су две посебне величине од којих ниједна није садржана у друго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нос полова=бр. мушкараца/бр. же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-3808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Р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ија је пропорција (број патолошким стањем захваћених становника дели се са укупним бројем становника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нимак ситуације у једном момент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е изражава ризик оболевања јер је условљена дужином трајања болести (дуготрајни поремећаји здравља могу да имају вишу преваленцију од краткотрајних, без обзира на евентуално нижу  инциденцију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05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АЛЕНЦИЈА (Р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да су Р и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билне током времена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 између њих постоји следећи однос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=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х дужина трајања болести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) у популацији од 100000 становника годишња инциденција поремећаја здравља је 5 на 100000, просечно трајање болести 2 годи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=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х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     Р=5/100000 х 2=10/100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754380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А МОРТАЛИТЕТА 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(Mt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дентична је стопи инциденције при чему је новонастали догађај – смртни ис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умрлих у одређеном пери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sr-CS" sz="32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</a:t>
            </a:r>
            <a:r>
              <a:rPr b="1" lang="en-US" sz="3200" spc="-1" strike="noStrike" baseline="50000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ир особа-времена излож. (поп. сред. посм. пе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 индикатор јавно –здравственог значаја одређеног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ЛЕТАЛИТЕТ (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Lt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ероватноћа да се нека болест или повреда заврши фатал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умр. услед одређеног поремећаја здрављ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sr-CS" sz="36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х 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. оболелих од истог порем. здрав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порција која се увек изражава у процентима (од 0%-некомпликован назеб до 100%-беснил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казује на ризик умирања оболелих особ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казатељ је тежине сам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62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ПШТИМ  СТОПАМА изражавамо одно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 између укупног броја оболелих (повређених умрлих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 збира свих особа-година посматрања (броја свих становника средином периода посматр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Општа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бији 2014. год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пан бр. умрлих у Србији током 2014.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х 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пан бр. становника Србији 30.06. 2014.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Општа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у већини земаља света је 5-10/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ОПШТЕ СТОП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ПШТИМ  СТОПАМА изражавамо одно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 између укупног броја оболелих (повређених умрлих) 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 збира свих особа-година посматрања (броја свих становника средином периода посматр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Општа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бији 2014. год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пан бр. умрлих у Србији током 2014.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х 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упан бр. становника Србији 30.06. 2014.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Општа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у већини земаља света је 5-10/1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СПЕЦИФИЧНЕ СТОП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граничене су на један пол, једну узрасну групу и/или један узрок оболевања (умирањ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стоје специфичне стопе по полу, узрасту и по узор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стопа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од рака плућа жена узраста 45-54 год. у Србији током једне годи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р. ж- узр. 45-54 г. умрлих од рака пл. у Србији те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 baseline="50000">
                <a:solidFill>
                  <a:srgbClr val="000000"/>
                </a:solidFill>
                <a:latin typeface="Arial"/>
              </a:rPr>
              <a:t>________________________________________________</a:t>
            </a:r>
            <a:r>
              <a:rPr b="1" lang="sr-CS" sz="2600" spc="-1" strike="noStrike" baseline="50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 10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ж. попул. узраста 45-54 г. у Србији 30. јуна исте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*) специфична стопа инциденције најчешћих облика рака у свету око 10/1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 поређење популација које имају различиту узрасну (или неку другу) структур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случају игнорисања ових разлика настају греш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ализа умирања по узрасним групама у два нас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7200" y="2057400"/>
          <a:ext cx="8305920" cy="4202280"/>
        </p:xfrm>
        <a:graphic>
          <a:graphicData uri="http://schemas.openxmlformats.org/drawingml/2006/table">
            <a:tbl>
              <a:tblPr/>
              <a:tblGrid>
                <a:gridCol w="1662120"/>
                <a:gridCol w="1662120"/>
                <a:gridCol w="1657440"/>
                <a:gridCol w="1662120"/>
                <a:gridCol w="1662120"/>
              </a:tblGrid>
              <a:tr h="43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ељ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стан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умрл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на 10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рал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ба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АНДАРДИЗОВАНЕ 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зрасно специфичне стопе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t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идентич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) Опште стопе различите, воде погрешном закључку (у средини са много старачких домаћинстава, без обзира на услове живота, умирање је чешће него у млађој популациј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Карактеристике однос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ројилац и именилац не морају да буду изражени у истим јединиц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9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сег могућих вредности односа се креће од 0 (нема мушкараца) до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∞ (нема же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е Мт у популацијама </a:t>
            </a:r>
            <a:br>
              <a:rPr sz="3900"/>
            </a:b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 и Б 1/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752480"/>
          <a:ext cx="8229600" cy="4695840"/>
        </p:xfrm>
        <a:graphic>
          <a:graphicData uri="http://schemas.openxmlformats.org/drawingml/2006/table">
            <a:tbl>
              <a:tblPr/>
              <a:tblGrid>
                <a:gridCol w="1176480"/>
                <a:gridCol w="1261800"/>
                <a:gridCol w="1089000"/>
                <a:gridCol w="1175040"/>
                <a:gridCol w="1241280"/>
                <a:gridCol w="1109520"/>
                <a:gridCol w="1176480"/>
              </a:tblGrid>
              <a:tr h="555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асна гру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лација 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лација 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станов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умрл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т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станов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. умрл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т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шта стопа М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/10000 х 100=</a:t>
                      </a: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51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/10000 х 100=3,0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0010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ИРЕКТНА СТАНДАРДИЗАЦИЈА 2/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услов за дир. стандардизацију је познавање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узрасно-специфичних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стопа популација које се поре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не се користе да би се израчунао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очекивани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број умрлих, односно оболелих у идспитиваној популацији, који би настао ако би њена узрасна структура била иста као структура стандардне попул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ДИРЕКТНА СТАНДАРДИЗАЦИЈА 3/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да се укупан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очекивани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број подели са бројем становника стандардне популације, добија се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стандардизована стоп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ндардизоване стопе за више популација могу да се поред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о стандард често се користе "популације света" или "популације Европе"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Директна стандардизација 4/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00200"/>
          <a:ext cx="8229600" cy="516240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371600"/>
                <a:gridCol w="1371600"/>
                <a:gridCol w="1371600"/>
                <a:gridCol w="1371600"/>
              </a:tblGrid>
              <a:tr h="749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асна гру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лација 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лација Б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на популација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т/1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кивани број умрлих (3)=(2)х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т/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кивани број умрлих (5)=(4)х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0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ардизована стопа М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5/20.000х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,0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10/20.000х100=6,0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Директна стандардизација 5/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ређењем само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општих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стопа долазимо до погрешног закључка да је здравствено стање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лошије у популацији 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бзиром да се популације А и Б разликују по узрасту, много је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више старих особа у популацији 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 општа стопа морталитета, кој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е вод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рачуна о узрасној структури популације, виша је у популацији 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оље је посматрати морталитет у истим узрасним групама (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стопе морталитета у свим узрасним групама су више у популацији Б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Директна стандардизација 6/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колико се као стандардна популација користи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збир обе популациј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, стандардизована стопа морталитета за популацију А је 3,03%, а за популацију </a:t>
            </a:r>
            <a:r>
              <a:rPr b="1" lang="sr-CS" sz="30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ff0000"/>
                </a:solidFill>
                <a:latin typeface="Arial"/>
              </a:rPr>
              <a:t>6,05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% (здравствена ситуација лошиј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ПРЕВАЗИЛАЖЕЊЕ ПРОБЛЕМ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9600" indent="-4572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м посматрања на </a:t>
            </a:r>
            <a:r>
              <a:rPr b="1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исте узрасн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групе (поређење одојчади са одојчадима, старих са старима ..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9600" indent="-45720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Стандардизациј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-други начин да се здравствено стање (оболевање, умирање) у две или више популационих група учини упоредиви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9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ндардизована стопа је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фиктивн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величина која би постојала када се (узрасна или друга) структура популација које се пореде међусобно не би разликов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ДИРЕКТНА СТАНДАРДИЗАЦИЈА 1/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Користи су узрасно специфичне стопе неке популације НЕПОЗНАТ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Метод је обрнути поступак од примењеног у директној стандардизациј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Користимо узрасно-специфичне стопе стандардне популације да би одредили ОЧЕКИВАН број умрлих у посматраној популациј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Рачунамо стандардизовани морталитетни однос (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SMR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)? Однос опаженог броја умрлих у испитиваној популацији и очекиваног броја (базираног на стопама стандардне популациј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Добијена вредност се множи са 1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0066"/>
                </a:solidFill>
                <a:latin typeface="Arial"/>
              </a:rPr>
              <a:t>ИНДИРЕКТНА СТАНДАРДИЗАЦИЈА 2/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447920"/>
          <a:ext cx="8610840" cy="5349600"/>
        </p:xfrm>
        <a:graphic>
          <a:graphicData uri="http://schemas.openxmlformats.org/drawingml/2006/table">
            <a:tbl>
              <a:tblPr/>
              <a:tblGrid>
                <a:gridCol w="1676520"/>
                <a:gridCol w="1981080"/>
                <a:gridCol w="1600200"/>
                <a:gridCol w="3353040"/>
              </a:tblGrid>
              <a:tr h="1267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асне груп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нд. по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цела земљ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 земљ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ф. стопе Мт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лација (у мил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чек. бр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умрлих у попул (у мил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х2.175=1.9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х1.320=6.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х0,1467=23,.8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 узра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2.3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ДИРЕКТНА СТАНДАРДИЗАЦИЈА 3/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MR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100 (опажени број умрлих исти је као и очекиван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M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00 (опажени број  је већи од очекиваног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M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00 (опажени број  је мањи од очекиваног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ОПОР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рста односа у којој је бројилац укључен у именилац (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a:a+b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ставља однос дела према цели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порција м. у колективу=бр.м / бр.м+бр.ж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ДИРЕКТНА СТАНДАРДИЗАЦИЈА 4/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тод се користи када с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рталитет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једног регион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земље пореди са морталитетом у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целој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земљи и тада њено становништво представља стандар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Жели да сазна да ли је морталитет радника у једној индустрији већи од оног у општој попула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0066"/>
                </a:solidFill>
                <a:latin typeface="Arial"/>
              </a:rPr>
              <a:t>ИНДИРЕКТНА СТАНДАРДИЗАЦИЈА 5/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наведеном региону земље, у истом периоду, умрло је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36712 особа (опажен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број у испитиваној популацији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SMR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 (36712/32374)х 100=113,4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мртност је повећана у овом региону у односу на целу земљ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0066"/>
                </a:solidFill>
                <a:latin typeface="Arial"/>
              </a:rPr>
              <a:t>Умирање од исхемичне болести срца (ИБС) у британској армији</a:t>
            </a:r>
            <a:br>
              <a:rPr sz="2400"/>
            </a:br>
            <a:r>
              <a:rPr b="1" lang="sr-CS" sz="2400" spc="-1" strike="noStrike">
                <a:solidFill>
                  <a:srgbClr val="330066"/>
                </a:solidFill>
                <a:latin typeface="Arial"/>
              </a:rPr>
              <a:t>(индиректна стандардизација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523880"/>
          <a:ext cx="8458200" cy="365724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  <a:gridCol w="1689120"/>
              </a:tblGrid>
              <a:tr h="95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рли од ИБС у Енгл. и Велсу (на 1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ул. Оруж. снага (у хиљадам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чекив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бр. Умрл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пажени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р. умрл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-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-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-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5,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Опажен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. умрлих                  148х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ндардизовани морт. однос= </a:t>
            </a:r>
            <a:r>
              <a:rPr b="0" lang="sr-CS" sz="3000" spc="-1" strike="noStrike" baseline="50000">
                <a:solidFill>
                  <a:srgbClr val="000000"/>
                </a:solidFill>
                <a:latin typeface="Arial"/>
              </a:rPr>
              <a:t>__________________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 100 = </a:t>
            </a:r>
            <a:r>
              <a:rPr b="0" lang="sr-CS" sz="3000" spc="-1" strike="noStrike" baseline="50000">
                <a:solidFill>
                  <a:srgbClr val="000000"/>
                </a:solidFill>
                <a:latin typeface="Arial"/>
              </a:rPr>
              <a:t>_______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1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Очекиван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бр. умрлих                     85,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Карактеристике пропорциј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.   Недимензионалне величине (немају јединицу у којој се изражавај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та јединица посматрања (димензија) садржана у номинатору и деноминатору па се поти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2.   Распон вредности између 0 и 1 независно од начина изражавања пропорције (0,4; 2/5; 4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ДЕК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7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казатељ настао посматрањем две или више променљивих величина (сажети показатељ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Изражен као одн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ндекс телесне масе = тежина/висина</a:t>
            </a:r>
            <a:r>
              <a:rPr b="0" lang="sr-C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Изражен као зби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пгаров скор =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бир одабраних знакова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животности новорођенч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=свођење различитих знакова                                                                                            животности на један сумарни показате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науци уопш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/х         у-временски континуиран проц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-вр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ава просечну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брзин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еког континуалног проц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мера промене једне количине по јединици друге количине од које зав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ОП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 епидемиологији и медицин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Однос у коме је време елеменат имениоца и у коме постоји посебна веза између бројиоца и имениоц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Изражавају брзину јављања односно кретања неке појаве (рађања, оболевања, ширења инфекције, умирања) у јединици време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ројила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= збир посматраних појава (укупан број умрлих од неке бол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менила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= збир периода током којих је сваки испитаник био праћен (особе-време; збир времена посматрања; ризику изложена попул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= узима у обзир разлику између испитаника праћених све време и оних који су посматрану популацију напустили из различитих разло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пресељење, смр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Карактеристике стоп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280" y="1719000"/>
            <a:ext cx="8763120" cy="48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Димензионалност им је 1/вре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казују се као реципроцитет времена (време</a:t>
            </a:r>
            <a:r>
              <a:rPr b="0" lang="sr-C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Опсег вред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 0 (очекивани догађај се није јавио-бројилац 0) до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∞ (посматрани догађај погодио све испитанике у оквиру бескрајно кратког периода апроксимативно означеног нул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20-10-02T06:51:3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